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9A5-35DF-4BC2-9D31-067674414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nperin 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4/1116Yhdistelmaliikenne/TuomistoYhdistelmaliikenne20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askenta tehty malliversiolla 1.0.1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YEP/publications/In_progress/Tuomisto_CompositeTraffic/BMC%20Public%20Health20050819/20051104Revised/CompositeTraffic_1_0_1.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löytyy http://ytoswww/yhteiset/YEP/publications/In_progress/Tuomisto_CompositeTraffic/BMC%20Public%20Health20050819/20051104Revised/Tuomisto_CompositeTraffic_13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askenta tehty malliversiolla 1.0.1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YEP/publications/In_progress/Tuomisto_CompositeTraffic/BMC%20Public%20Health20050819/20051104Revised/CompositeTraffic_1_0_1.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löytyy http://ytoswww/yhteiset/YEP/publications/In_progress/Tuomisto_CompositeTraffic/BMC%20Public%20Health20050819/20051104Revised/Tuomisto_CompositeTraffic_13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Kokoukset/2005/1109YhdistelmaliikenneSidosryhmat/TuomistoYhdistelmaliikenne200511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Presentations/2006/0113TulevaisuudenLiikenne/TuomistoYhdistelmaliikenne20060113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upload.wikimedia.org/wikipedia/commons/8/84/Paranal_opendom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epsis.fi/lehti/2007/2007-4-jarvin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levaisuuden liikenne –seminaari Helsinki 13.1.2006, Tieteiden talo. Paikalla Jouni Tuomisto. Tämä esit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Presentations/2006/0113TulevaisuudenLiikenne/TuomistoYhdistelmaliikenne20060113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uperäinen esitys http://ytoswww/yhteiset/Huippuyksikko/Kokoukset/2005/1125YhdLiikLehdistotilaisuus/TuomistoYhdistelmaliikenne20051125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4/1116Yhdistelmaliikenne/TuomistoYhdistelmaliikenne2004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alunper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ytoswww/yhteiset/Huippuyksikko/Julkaisut/2002/1106Tuloskeskustelu/TuomistoTuloskeskustelu2003Riskianalyysi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F99-94A5-4019-A3F2-52CC0C50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EAA-441E-4354-9D49-73B34D9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D58-4218-44EA-A110-1A87D61A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28C-DB2A-4D37-8805-863A8863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880-CF5F-4602-9D00-E4D760C2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EFD8-1058-454A-AEB9-8C54F431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A11-0D35-4F2B-92C0-E7BAFC83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C15-D490-466A-9113-C73C8F90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33B5-767C-4440-A0A8-E8A8C619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9729-286E-4B8E-A714-3B82D52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00D-E437-41E5-B178-4F0BAF5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A57-9EC1-4C29-AE0A-0A6AA65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1490-66BF-4ACC-AB15-C9A5735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DBD0-A86B-4608-861E-2C6764B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7A8C-3E42-4A7F-964E-16249D9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D1E8-9103-4BE7-9799-237B0864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6A1-6362-4287-A8FF-DC794204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3B-D807-4AD4-80AF-9D8E3976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E33-6799-4CBB-8B7A-2C13AD75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D5A-3AAF-4E3E-AEE1-AE0C866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9F8-1C89-4FE3-88E1-33D402C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8EC-3A29-47BB-B10D-0D04634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09D-626B-422E-8AC9-5559CBF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C97-6354-4F58-BEA9-37AC3CD3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C5C5-0851-4277-888C-4F424B99D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548B-EF17-48A1-9D30-55C44C399C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opasnet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iomedcentral.com/1471-2458/5/123/abstract" TargetMode="External"/><Relationship Id="rId2" Type="http://schemas.openxmlformats.org/officeDocument/2006/relationships/hyperlink" Target="http://www.biomedcentral.com/1471-2458/5/123/abstract" TargetMode="External"/><Relationship Id="rId3" Type="http://schemas.openxmlformats.org/officeDocument/2006/relationships/hyperlink" Target="http://www.biomedcentral.com/1471-2458/5/123/abstract" TargetMode="External"/><Relationship Id="rId4" Type="http://schemas.openxmlformats.org/officeDocument/2006/relationships/hyperlink" Target="http://www.biomedcentral.com/1471-2458/5/123/abstract" TargetMode="External"/><Relationship Id="rId5" Type="http://schemas.openxmlformats.org/officeDocument/2006/relationships/hyperlink" Target="http://en.opasnet.org/" TargetMode="External"/><Relationship Id="rId6" Type="http://schemas.openxmlformats.org/officeDocument/2006/relationships/hyperlink" Target="http://en.opasnet.org/w/File:Composite_traffic.ANA" TargetMode="External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docs.google.com/drawings/d/1f1s1drjo8qMJ-vWR3BQgsfRbH2DO0E43Xb01eRddWcg/edit?hl=en_GB&amp;authkey=CN_oqbYK&amp;pli=1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opasnet.org/w/Darm" TargetMode="External"/><Relationship Id="rId2" Type="http://schemas.openxmlformats.org/officeDocument/2006/relationships/hyperlink" Target="http://en.opasnet.org/w/Assessment_of_the_health_impacts_of_H1N1_vaccination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n mallitus. Esimerkkinä liikenteen muutosten päästövaikutukset ja sairastuvu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54040" y="1162080"/>
            <a:ext cx="1843200" cy="743040"/>
          </a:xfrm>
          <a:custGeom>
            <a:avLst/>
            <a:gdLst/>
            <a:ahLst/>
            <a:rect l="l" t="t" r="r" b="b"/>
            <a:pathLst>
              <a:path w="1161" h="468">
                <a:moveTo>
                  <a:pt x="308" y="462"/>
                </a:moveTo>
                <a:lnTo>
                  <a:pt x="1161" y="461"/>
                </a:lnTo>
                <a:lnTo>
                  <a:pt x="1134" y="277"/>
                </a:lnTo>
                <a:lnTo>
                  <a:pt x="870" y="246"/>
                </a:lnTo>
                <a:lnTo>
                  <a:pt x="772" y="33"/>
                </a:lnTo>
                <a:lnTo>
                  <a:pt x="389" y="0"/>
                </a:lnTo>
                <a:lnTo>
                  <a:pt x="60" y="13"/>
                </a:lnTo>
                <a:lnTo>
                  <a:pt x="7" y="211"/>
                </a:lnTo>
                <a:lnTo>
                  <a:pt x="0" y="468"/>
                </a:lnTo>
                <a:lnTo>
                  <a:pt x="308" y="46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35000" y="1766880"/>
            <a:ext cx="22248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07920" y="17668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7620120" y="3886200"/>
            <a:ext cx="457200" cy="837720"/>
            <a:chOff x="7620120" y="3886200"/>
            <a:chExt cx="457200" cy="837720"/>
          </a:xfrm>
        </p:grpSpPr>
        <p:sp>
          <p:nvSpPr>
            <p:cNvPr id="702" name=""/>
            <p:cNvSpPr/>
            <p:nvPr/>
          </p:nvSpPr>
          <p:spPr>
            <a:xfrm>
              <a:off x="775656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2012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705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62120" y="1295280"/>
            <a:ext cx="268200" cy="514440"/>
            <a:chOff x="762120" y="1295280"/>
            <a:chExt cx="268200" cy="514440"/>
          </a:xfrm>
        </p:grpSpPr>
        <p:sp>
          <p:nvSpPr>
            <p:cNvPr id="711" name=""/>
            <p:cNvSpPr/>
            <p:nvPr/>
          </p:nvSpPr>
          <p:spPr>
            <a:xfrm>
              <a:off x="76500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12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90720" y="1295280"/>
            <a:ext cx="268200" cy="514440"/>
            <a:chOff x="990720" y="1295280"/>
            <a:chExt cx="268200" cy="514440"/>
          </a:xfrm>
        </p:grpSpPr>
        <p:sp>
          <p:nvSpPr>
            <p:cNvPr id="714" name=""/>
            <p:cNvSpPr/>
            <p:nvPr/>
          </p:nvSpPr>
          <p:spPr>
            <a:xfrm>
              <a:off x="99360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895480" y="1295280"/>
            <a:ext cx="81936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340080" y="1343160"/>
            <a:ext cx="268200" cy="514080"/>
            <a:chOff x="3340080" y="1343160"/>
            <a:chExt cx="268200" cy="514080"/>
          </a:xfrm>
        </p:grpSpPr>
        <p:sp>
          <p:nvSpPr>
            <p:cNvPr id="718" name=""/>
            <p:cNvSpPr/>
            <p:nvPr/>
          </p:nvSpPr>
          <p:spPr>
            <a:xfrm>
              <a:off x="3342960" y="134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40080" y="149760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614680" y="152568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295280" y="1295280"/>
            <a:ext cx="268560" cy="514440"/>
            <a:chOff x="1295280" y="1295280"/>
            <a:chExt cx="268560" cy="514440"/>
          </a:xfrm>
        </p:grpSpPr>
        <p:sp>
          <p:nvSpPr>
            <p:cNvPr id="722" name=""/>
            <p:cNvSpPr/>
            <p:nvPr/>
          </p:nvSpPr>
          <p:spPr>
            <a:xfrm>
              <a:off x="129816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295280" y="144972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66680" y="1295280"/>
            <a:ext cx="268560" cy="514440"/>
            <a:chOff x="1066680" y="1295280"/>
            <a:chExt cx="268560" cy="514440"/>
          </a:xfrm>
        </p:grpSpPr>
        <p:sp>
          <p:nvSpPr>
            <p:cNvPr id="725" name=""/>
            <p:cNvSpPr/>
            <p:nvPr/>
          </p:nvSpPr>
          <p:spPr>
            <a:xfrm>
              <a:off x="106956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6680" y="144972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114800" y="2438280"/>
            <a:ext cx="1828800" cy="685800"/>
            <a:chOff x="4114800" y="2438280"/>
            <a:chExt cx="1828800" cy="685800"/>
          </a:xfrm>
        </p:grpSpPr>
        <p:sp>
          <p:nvSpPr>
            <p:cNvPr id="728" name=""/>
            <p:cNvSpPr/>
            <p:nvPr/>
          </p:nvSpPr>
          <p:spPr>
            <a:xfrm>
              <a:off x="4114800" y="2438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363640" y="29098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7640" y="29098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68800" y="2484360"/>
            <a:ext cx="268200" cy="514440"/>
            <a:chOff x="5068800" y="2484360"/>
            <a:chExt cx="268200" cy="514440"/>
          </a:xfrm>
        </p:grpSpPr>
        <p:sp>
          <p:nvSpPr>
            <p:cNvPr id="732" name=""/>
            <p:cNvSpPr/>
            <p:nvPr/>
          </p:nvSpPr>
          <p:spPr>
            <a:xfrm>
              <a:off x="5071680" y="2484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68800" y="2638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0384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2286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24280" y="4419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0060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81480" y="2286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625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057400" y="3657600"/>
            <a:ext cx="457200" cy="837720"/>
            <a:chOff x="2057400" y="3657600"/>
            <a:chExt cx="457200" cy="837720"/>
          </a:xfrm>
        </p:grpSpPr>
        <p:sp>
          <p:nvSpPr>
            <p:cNvPr id="742" name=""/>
            <p:cNvSpPr/>
            <p:nvPr/>
          </p:nvSpPr>
          <p:spPr>
            <a:xfrm>
              <a:off x="2193840" y="36576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57400" y="38872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733920" y="3886200"/>
            <a:ext cx="457200" cy="837720"/>
            <a:chOff x="3733920" y="3886200"/>
            <a:chExt cx="457200" cy="837720"/>
          </a:xfrm>
        </p:grpSpPr>
        <p:sp>
          <p:nvSpPr>
            <p:cNvPr id="745" name=""/>
            <p:cNvSpPr/>
            <p:nvPr/>
          </p:nvSpPr>
          <p:spPr>
            <a:xfrm>
              <a:off x="387036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3392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543800" y="5334120"/>
            <a:ext cx="457200" cy="837720"/>
            <a:chOff x="7543800" y="5334120"/>
            <a:chExt cx="457200" cy="837720"/>
          </a:xfrm>
        </p:grpSpPr>
        <p:sp>
          <p:nvSpPr>
            <p:cNvPr id="748" name=""/>
            <p:cNvSpPr/>
            <p:nvPr/>
          </p:nvSpPr>
          <p:spPr>
            <a:xfrm>
              <a:off x="7680240" y="533412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43800" y="556380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85800" y="1295280"/>
            <a:ext cx="268200" cy="514440"/>
            <a:chOff x="685800" y="1295280"/>
            <a:chExt cx="268200" cy="514440"/>
          </a:xfrm>
        </p:grpSpPr>
        <p:sp>
          <p:nvSpPr>
            <p:cNvPr id="751" name=""/>
            <p:cNvSpPr/>
            <p:nvPr/>
          </p:nvSpPr>
          <p:spPr>
            <a:xfrm>
              <a:off x="68868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09480" y="2362320"/>
            <a:ext cx="1828800" cy="685800"/>
            <a:chOff x="609480" y="2362320"/>
            <a:chExt cx="1828800" cy="685800"/>
          </a:xfrm>
        </p:grpSpPr>
        <p:sp>
          <p:nvSpPr>
            <p:cNvPr id="754" name=""/>
            <p:cNvSpPr/>
            <p:nvPr/>
          </p:nvSpPr>
          <p:spPr>
            <a:xfrm>
              <a:off x="609480" y="23623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58320" y="283392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32320" y="283392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1563840" y="2408400"/>
            <a:ext cx="268200" cy="514080"/>
            <a:chOff x="1563840" y="2408400"/>
            <a:chExt cx="268200" cy="514080"/>
          </a:xfrm>
        </p:grpSpPr>
        <p:sp>
          <p:nvSpPr>
            <p:cNvPr id="758" name=""/>
            <p:cNvSpPr/>
            <p:nvPr/>
          </p:nvSpPr>
          <p:spPr>
            <a:xfrm>
              <a:off x="1566720" y="24084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63840" y="25628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33520" y="25146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9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2133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2133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765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" y="27432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324480" y="2438280"/>
            <a:ext cx="1828800" cy="685800"/>
            <a:chOff x="6324480" y="2438280"/>
            <a:chExt cx="1828800" cy="685800"/>
          </a:xfrm>
        </p:grpSpPr>
        <p:sp>
          <p:nvSpPr>
            <p:cNvPr id="768" name=""/>
            <p:cNvSpPr/>
            <p:nvPr/>
          </p:nvSpPr>
          <p:spPr>
            <a:xfrm>
              <a:off x="6324480" y="2438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73320" y="290988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7320" y="290988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7278840" y="2484360"/>
            <a:ext cx="268200" cy="514440"/>
            <a:chOff x="7278840" y="2484360"/>
            <a:chExt cx="268200" cy="514440"/>
          </a:xfrm>
        </p:grpSpPr>
        <p:sp>
          <p:nvSpPr>
            <p:cNvPr id="772" name=""/>
            <p:cNvSpPr/>
            <p:nvPr/>
          </p:nvSpPr>
          <p:spPr>
            <a:xfrm>
              <a:off x="7281720" y="2484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78840" y="2638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21337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324480" y="2286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29400" y="2438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102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848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91520" y="2286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722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838080" y="3886200"/>
            <a:ext cx="457200" cy="837720"/>
            <a:chOff x="838080" y="3886200"/>
            <a:chExt cx="457200" cy="837720"/>
          </a:xfrm>
        </p:grpSpPr>
        <p:sp>
          <p:nvSpPr>
            <p:cNvPr id="782" name=""/>
            <p:cNvSpPr/>
            <p:nvPr/>
          </p:nvSpPr>
          <p:spPr>
            <a:xfrm>
              <a:off x="974520" y="38862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38080" y="41158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785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995560" y="1525680"/>
            <a:ext cx="304920" cy="30456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371600" y="1295280"/>
            <a:ext cx="268200" cy="514440"/>
            <a:chOff x="1371600" y="1295280"/>
            <a:chExt cx="268200" cy="514440"/>
          </a:xfrm>
        </p:grpSpPr>
        <p:sp>
          <p:nvSpPr>
            <p:cNvPr id="789" name=""/>
            <p:cNvSpPr/>
            <p:nvPr/>
          </p:nvSpPr>
          <p:spPr>
            <a:xfrm>
              <a:off x="1374480" y="1295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71600" y="1449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219320" y="2438280"/>
            <a:ext cx="268200" cy="514440"/>
            <a:chOff x="1219320" y="2438280"/>
            <a:chExt cx="268200" cy="514440"/>
          </a:xfrm>
        </p:grpSpPr>
        <p:sp>
          <p:nvSpPr>
            <p:cNvPr id="792" name=""/>
            <p:cNvSpPr/>
            <p:nvPr/>
          </p:nvSpPr>
          <p:spPr>
            <a:xfrm>
              <a:off x="1222200" y="24382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19320" y="25927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352680" y="4952880"/>
            <a:ext cx="457200" cy="838080"/>
            <a:chOff x="3352680" y="4952880"/>
            <a:chExt cx="457200" cy="838080"/>
          </a:xfrm>
        </p:grpSpPr>
        <p:sp>
          <p:nvSpPr>
            <p:cNvPr id="795" name=""/>
            <p:cNvSpPr/>
            <p:nvPr/>
          </p:nvSpPr>
          <p:spPr>
            <a:xfrm>
              <a:off x="3489120" y="49528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52680" y="51825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334120" y="3962520"/>
            <a:ext cx="457200" cy="837720"/>
            <a:chOff x="5334120" y="3962520"/>
            <a:chExt cx="457200" cy="837720"/>
          </a:xfrm>
        </p:grpSpPr>
        <p:sp>
          <p:nvSpPr>
            <p:cNvPr id="798" name=""/>
            <p:cNvSpPr/>
            <p:nvPr/>
          </p:nvSpPr>
          <p:spPr>
            <a:xfrm>
              <a:off x="5470560" y="396252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34120" y="419220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5715000" y="1219320"/>
            <a:ext cx="1843200" cy="742680"/>
          </a:xfrm>
          <a:custGeom>
            <a:avLst/>
            <a:gdLst/>
            <a:ahLst/>
            <a:rect l="l" t="t" r="r" b="b"/>
            <a:pathLst>
              <a:path w="1161" h="468">
                <a:moveTo>
                  <a:pt x="308" y="462"/>
                </a:moveTo>
                <a:lnTo>
                  <a:pt x="1161" y="461"/>
                </a:lnTo>
                <a:lnTo>
                  <a:pt x="1134" y="277"/>
                </a:lnTo>
                <a:lnTo>
                  <a:pt x="870" y="246"/>
                </a:lnTo>
                <a:lnTo>
                  <a:pt x="772" y="33"/>
                </a:lnTo>
                <a:lnTo>
                  <a:pt x="389" y="0"/>
                </a:lnTo>
                <a:lnTo>
                  <a:pt x="60" y="13"/>
                </a:lnTo>
                <a:lnTo>
                  <a:pt x="7" y="211"/>
                </a:lnTo>
                <a:lnTo>
                  <a:pt x="0" y="468"/>
                </a:lnTo>
                <a:lnTo>
                  <a:pt x="308" y="46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095960" y="1824120"/>
            <a:ext cx="22248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68880" y="182412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800760" y="1398600"/>
            <a:ext cx="268200" cy="514440"/>
            <a:chOff x="6800760" y="1398600"/>
            <a:chExt cx="268200" cy="514440"/>
          </a:xfrm>
        </p:grpSpPr>
        <p:sp>
          <p:nvSpPr>
            <p:cNvPr id="804" name=""/>
            <p:cNvSpPr/>
            <p:nvPr/>
          </p:nvSpPr>
          <p:spPr>
            <a:xfrm>
              <a:off x="6803640" y="1398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00760" y="155304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532560" y="1123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370640" y="1123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913440" y="120024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6151680" y="1352520"/>
            <a:ext cx="268200" cy="514440"/>
            <a:chOff x="6151680" y="1352520"/>
            <a:chExt cx="268200" cy="514440"/>
          </a:xfrm>
        </p:grpSpPr>
        <p:sp>
          <p:nvSpPr>
            <p:cNvPr id="810" name=""/>
            <p:cNvSpPr/>
            <p:nvPr/>
          </p:nvSpPr>
          <p:spPr>
            <a:xfrm>
              <a:off x="615456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51680" y="150696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456240" y="1352520"/>
            <a:ext cx="268560" cy="514440"/>
            <a:chOff x="6456240" y="1352520"/>
            <a:chExt cx="268560" cy="514440"/>
          </a:xfrm>
        </p:grpSpPr>
        <p:sp>
          <p:nvSpPr>
            <p:cNvPr id="813" name=""/>
            <p:cNvSpPr/>
            <p:nvPr/>
          </p:nvSpPr>
          <p:spPr>
            <a:xfrm>
              <a:off x="645912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56240" y="150696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227640" y="1352520"/>
            <a:ext cx="268560" cy="514440"/>
            <a:chOff x="6227640" y="1352520"/>
            <a:chExt cx="268560" cy="514440"/>
          </a:xfrm>
        </p:grpSpPr>
        <p:sp>
          <p:nvSpPr>
            <p:cNvPr id="816" name=""/>
            <p:cNvSpPr/>
            <p:nvPr/>
          </p:nvSpPr>
          <p:spPr>
            <a:xfrm>
              <a:off x="623052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27640" y="150696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532560" y="1352520"/>
            <a:ext cx="268200" cy="514440"/>
            <a:chOff x="6532560" y="1352520"/>
            <a:chExt cx="268200" cy="514440"/>
          </a:xfrm>
        </p:grpSpPr>
        <p:sp>
          <p:nvSpPr>
            <p:cNvPr id="819" name=""/>
            <p:cNvSpPr/>
            <p:nvPr/>
          </p:nvSpPr>
          <p:spPr>
            <a:xfrm>
              <a:off x="6535440" y="13525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32560" y="150696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791320" y="152388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19240" y="17542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352680" y="1752480"/>
            <a:ext cx="222480" cy="2145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1295280"/>
            <a:ext cx="81900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635360" y="1343160"/>
            <a:ext cx="268560" cy="514080"/>
            <a:chOff x="4635360" y="1343160"/>
            <a:chExt cx="268560" cy="514080"/>
          </a:xfrm>
        </p:grpSpPr>
        <p:sp>
          <p:nvSpPr>
            <p:cNvPr id="826" name=""/>
            <p:cNvSpPr/>
            <p:nvPr/>
          </p:nvSpPr>
          <p:spPr>
            <a:xfrm>
              <a:off x="4638240" y="134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35360" y="1497600"/>
              <a:ext cx="26856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3909960" y="152568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14880" y="175428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48320" y="1752480"/>
            <a:ext cx="222120" cy="2145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71800" y="2362320"/>
            <a:ext cx="819000" cy="588960"/>
          </a:xfrm>
          <a:custGeom>
            <a:avLst/>
            <a:gdLst/>
            <a:ahLst/>
            <a:rect l="l" t="t" r="r" b="b"/>
            <a:pathLst>
              <a:path w="516" h="371">
                <a:moveTo>
                  <a:pt x="0" y="370"/>
                </a:moveTo>
                <a:lnTo>
                  <a:pt x="424" y="371"/>
                </a:lnTo>
                <a:lnTo>
                  <a:pt x="516" y="371"/>
                </a:lnTo>
                <a:lnTo>
                  <a:pt x="510" y="252"/>
                </a:lnTo>
                <a:lnTo>
                  <a:pt x="466" y="163"/>
                </a:lnTo>
                <a:lnTo>
                  <a:pt x="381" y="1"/>
                </a:lnTo>
                <a:lnTo>
                  <a:pt x="118" y="0"/>
                </a:lnTo>
                <a:lnTo>
                  <a:pt x="6" y="165"/>
                </a:lnTo>
                <a:lnTo>
                  <a:pt x="6" y="224"/>
                </a:lnTo>
                <a:lnTo>
                  <a:pt x="6" y="317"/>
                </a:lnTo>
                <a:lnTo>
                  <a:pt x="0" y="37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416400" y="2409840"/>
            <a:ext cx="268200" cy="514440"/>
            <a:chOff x="3416400" y="2409840"/>
            <a:chExt cx="268200" cy="514440"/>
          </a:xfrm>
        </p:grpSpPr>
        <p:sp>
          <p:nvSpPr>
            <p:cNvPr id="833" name=""/>
            <p:cNvSpPr/>
            <p:nvPr/>
          </p:nvSpPr>
          <p:spPr>
            <a:xfrm>
              <a:off x="3419280" y="240984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16400" y="256428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690640" y="259236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95560" y="2820960"/>
            <a:ext cx="2239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29000" y="2819520"/>
            <a:ext cx="222120" cy="21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mallin lähtökohd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kojenyhdistelyjärjestelmä, jota sovelletaan poikkeuksellisen suuressa mittakaavassa: suurkaupungin alueen henkilöautomatkojen suuruiseen volyymi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kojen yhdistely 8 ja 4 matkustajan autoi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uu: kaikki halukkaat kuljetetaan perille suorinta tie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1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vittaessa yksi vaihto, jos ajoneuvoa ei muuten saada täyt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lsinki, Espoo, Vantaa, Kauniainen (P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ko 129 kaupunginosaan, 12 min aikajaksoih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hdistelmäliikennemall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ksi päätöksentekijä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nta: paljonko yhdistelmäliikennettä tue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tkustaja: Minkä matkustusmuodon valit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Kustannuslaskenta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äästöt (pienhiukkaset,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joneuvo (pääomakul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jaminen (polttoaine, muut käyttökul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ika (ruuhkat, odot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ysäköi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ljettaja (kuljettajan palkka, oman ajamisen arvost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atkojen määrä ajoneuvoittai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01924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5105520" cy="52578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172200" y="55627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fraction=50% 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 = whol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84720" y="1773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 1: Miten yhdistelmäliikenne toimisi ja mitä se kokonaisuutena maksai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Liikenteen yhteiskunnalliset kustannukset: henkilöauto vs. yhdistelmäliikenne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468360" y="1260360"/>
            <a:ext cx="73976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Yksilöiden erot päätöksentekijöin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24000" y="1306440"/>
            <a:ext cx="5932440" cy="55515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012000" y="1628640"/>
            <a:ext cx="29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 2: mitä muutosvoimia sisältyy yksilöiden toimintaan päätöksentekijöin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hteiskunnalliset kustannukset </a:t>
            </a:r>
            <a:br>
              <a:rPr sz="3400"/>
            </a:br>
            <a:r>
              <a:rPr b="1" lang="fi-FI" sz="2100" spc="-1" strike="noStrike">
                <a:solidFill>
                  <a:srgbClr val="7bc143"/>
                </a:solidFill>
                <a:latin typeface="Arial"/>
              </a:rPr>
              <a:t>(sisältää tukiaiset) erisuuruisilla toiminta-alueilla</a:t>
            </a:r>
            <a:endParaRPr b="1" lang="en-US" sz="21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7150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Päätelmi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distelmäliikenteellä on mahdollista yhdistellä matkoja siten, että palvelutaso ja joustavuus on samaa luokkaa kuin henkilöaut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onet henkilöautoliikenteen kustannukset (haitat) vähenevät 50 – 70 % mutta kuljettajista syntyy uusi suuri kuluerä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Googlen itsestään ajavat autot voivat muuttaa tämän tilan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Jopa lähes 50 % autoilijoista voisi pitää yhdistelmäliikennettä edullisena vaihtoehtona mallioletusten perustee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Järjestelmän voi ajaa ylös alueittain ja näin välttää taloudellisia riskejä: jopa 250 autoa riittää aluksi (Helsingin ydinkeskusta, 82000 asukast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tkustajalla ja yhteiskunnalla on omat tärkeät roolinsa ja yhteispelinsä, mutta edut ovat vahv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äätelmiä (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t säästöt ovat selvät jo pienehköllä / valtavahkolla (30%) yhdistelmäliikenteen osuudella (eli n.15 % kaikista matkoista kyseisellä alueell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älittömät pienhiukkashyödyt yllättävän pienet </a:t>
            </a: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utokannan pienentyminen ja keskittyminen helpottavat uusiutumista jatko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sa hyödyistä (joita ei tässä tarkasteltu) tulee vasta vuosien kulutt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1df63"/>
                </a:solidFill>
                <a:latin typeface="Wingdings"/>
                <a:ea typeface="Wingdings"/>
              </a:rPr>
              <a:t></a:t>
            </a:r>
            <a:r>
              <a:rPr b="0" lang="en-GB" sz="2600" spc="-1" strike="noStrike">
                <a:solidFill>
                  <a:srgbClr val="c1df6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c1df63"/>
                </a:solidFill>
                <a:latin typeface="Arial"/>
              </a:rPr>
              <a:t>Tärkein vaikutus on päätöksenteon vapausasteiden lisäänty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ärkeimmät viest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mahdollista kasvattaa uusi, nykyistä selvästi tehokkaampi joukkoliikenteen muoto kaupunkeihin yhdistelemällä matko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tkimus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oidaan tehdä ratkaisevasti paremmin mallittamalla yhdessä rajat ylittäviä kokonaisuuk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hteiskunnallist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äätöksenteko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oidaan tehdä ratkaisevasti paremmin käyttämällä tätä mallia ja käymällä sen pohjalta kriittistä, avointa keskustel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utos tapahtuu yksilötasolla, ja ny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vitaan muutosagentte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empaan maailmaan pääsemise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458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hteistyötä haetaan eri aiheissa, mm. ilmasto-politiikka, terveysvaikutusten arviointi kunnissa: </a:t>
            </a:r>
            <a:r>
              <a:rPr b="0" lang="en-US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Varauks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ustannus-hyötymallit eivät kuvaa kovin hyvin ihmisten todellista liikennekäyttäyty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kat lähtöpisteessä ja määränpäässä pitäisi selvittää tarkemmin – voi muuttaa tuloks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hmisten halukkuutta käyttää yhdistelmäliikennettä pitäisi tutkia erillisellä tutkimuks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kojenyhdistelyjärjestelmän kustannuksia ei arvioi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1df63"/>
                </a:solidFill>
                <a:latin typeface="Arial"/>
              </a:rPr>
              <a:t>Emme tutkineet, kiinnostaisiko yhdistelmäliikenne ihmisiä. Mutta saimme selville, että siitä kannattaisi kiinnost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60360" y="380880"/>
            <a:ext cx="847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7bc143"/>
                </a:solidFill>
                <a:latin typeface="Arial"/>
              </a:rPr>
              <a:t>Lisätietoj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22200" y="1066680"/>
            <a:ext cx="8514000" cy="55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omisto JT, Tainio M: An economic way of reducing health, environmental, and other pressures of urban traffic: a decision analysis on trip aggregation.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MC Public Health, 2005, 5: 123.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2"/>
              </a:rPr>
              <a:t>www.biomedcentral.com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3"/>
              </a:rPr>
              <a:t>/1471-2458/5/123/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ea typeface="Times New Roman"/>
                <a:hlinkClick r:id="rId4"/>
              </a:rPr>
              <a:t>abs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uni Tuomisto (jouni.tuomisto [at] thl.f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5"/>
              </a:rPr>
              <a:t>http://en.opasnet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6bc9c7"/>
                </a:solidFill>
                <a:uFillTx/>
                <a:latin typeface="Arial"/>
                <a:hlinkClick r:id="rId6"/>
              </a:rPr>
              <a:t>http://en.opasnet.org/w/File:Composite_traffic.AN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ahoit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1100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LOG_CTXT" descr=""/>
          <p:cNvPicPr/>
          <p:nvPr/>
        </p:nvPicPr>
        <p:blipFill>
          <a:blip r:embed="rId7"/>
          <a:stretch/>
        </p:blipFill>
        <p:spPr>
          <a:xfrm>
            <a:off x="539640" y="5589720"/>
            <a:ext cx="4191120" cy="57312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3614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4859280" y="5373720"/>
            <a:ext cx="3276720" cy="1123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6858000" y="2971800"/>
            <a:ext cx="179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utkimuksen ja päätöksenteon rajapinta. Avoin arvioint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877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879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943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944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954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957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960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965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ssio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upunkiliikenne uudelleen ajateltu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danto tieteen ja politiikan (tutkimuksen ja päätöksenteon) rajapinnan murrok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men mallituksen id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asnetin de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skustelua: miten tästä eteenpä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How Opasnet helps in assessments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41200" y="1484280"/>
            <a:ext cx="6621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s://docs.google.com/drawings/d/1f1s1drjo8qMJ-vWR3BQgsfRbH2DO0E43Xb01eRddWcg/edit?hl=en_GB&amp;authkey=CN_oqbYK&amp;pli=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533520" y="1341360"/>
            <a:ext cx="7657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he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Department of Environmental Health had officially nothing to do with narcolepsy, because the Vaccination Department was in char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owever, we found this as a good case study for our university class Decision Analysis and Risk Management </a:t>
            </a:r>
            <a:r>
              <a:rPr b="0" lang="fi-FI" sz="22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en.opasnet.org/w/Darm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he course was in March-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11 MSc students (mostly toxicology), 2 env health researchers, 1 mode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An online assessment was performed: ”What are the public health impacts of different swine flu vaccination decisions in 2009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c9c7"/>
                </a:solidFill>
                <a:uFillTx/>
                <a:latin typeface="Arial"/>
                <a:hlinkClick r:id="rId2"/>
              </a:rPr>
              <a:t>http://en.opasnet.org/w/Assessment_of_the_health_impacts_of_H1N1_vacc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Influence diagram of the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8820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ccination decision: results (mean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028000" cy="60199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539640" y="1628640"/>
            <a:ext cx="20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f you are risk neutral, you probably want to go for the lowest expected out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00000" y="3500280"/>
            <a:ext cx="1429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Vaccination decision: uncertain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8317080" cy="593244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3708360" y="51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f you are risk averse, you don’t want to see these long 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3564000" y="580536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erimmäinen olemus? (1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093080" cy="471636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4932360" y="616572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© Wikip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erimmäinen olemus? (2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543640" cy="45655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4356000" y="6237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© Risto Järvinen, Skep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oimintatapa sessioss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yttäkää heti jos tulee kommentoitavaa. Keskustelulle on varattu aika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een menetelmä käytössä: mitä ei yhteisö haasta, se on toistaiseksi hyväksytty hypotee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ukku ylös ja peukku alas ovat käytö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mäkin sessio on osa prosessia, joka tutkii aihetta ”Mallit tulevaisuuden ymmärtämisessä.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von jonkun tekevän muistiinpanoja keskustelusta ja sessio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istiinpanot laitetaan sivul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.opasnet.org/fi/Mallit_tulevaisuuden_ymmärtämis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o-olio ja se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468360" y="-1440"/>
            <a:ext cx="83883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02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3469E-006 L 0.18907 2.53469E-006 E">
                                      <p:cBhvr>
                                        <p:cTn id="52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042920" y="0"/>
            <a:ext cx="2952720" cy="37450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-olion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sällö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skustelu osana 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-olio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468360" y="-1440"/>
            <a:ext cx="8389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26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3469E-006 L 0.17118 2.53469E-006 E">
                                      <p:cBhvr>
                                        <p:cTn id="63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19981E-006 L -0.00382 0.16397 E">
                                      <p:cBhvr>
                                        <p:cTn id="70" dur="2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042920" y="0"/>
            <a:ext cx="2952720" cy="374508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ieto-olion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sällö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eskustelun 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jäsentämine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835280" y="1197000"/>
            <a:ext cx="17636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skustelun</a:t>
            </a:r>
            <a:br>
              <a:rPr sz="2000"/>
            </a:b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1138320" y="623880"/>
            <a:ext cx="6867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31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16215 -0.24931 E">
                                      <p:cBhvr>
                                        <p:cTn id="78" dur="20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1656E-006 L -0.08958 0.37928 E">
                                      <p:cBhvr>
                                        <p:cTn id="85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19981E-006 L -0.00382 0.16397 E">
                                      <p:cBhvr>
                                        <p:cTn id="89" dur="2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een prosessi tieto-olion näkökulmas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55640" y="1413000"/>
            <a:ext cx="2952720" cy="37447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sk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3600360" y="1484280"/>
            <a:ext cx="5543640" cy="4565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3564000" y="981000"/>
            <a:ext cx="5580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74561E-006 L -0.39948 0.10731 E">
                                      <p:cBhvr>
                                        <p:cTn id="100" dur="2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03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9278E-007 L -0.37014 -0.20675 E">
                                      <p:cBhvr>
                                        <p:cTn id="110" dur="2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Energiantuotannon kasvihuonekaasupäästöt Suomessa ja niiden riippuvuudet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119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0104 -0.72754 E">
                                      <p:cBhvr>
                                        <p:cTn id="116" dur="2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to-olioiden riippuvuud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8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932360" y="1916280"/>
            <a:ext cx="2952720" cy="374472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sym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990000"/>
                </a:solidFill>
                <a:latin typeface="Arial"/>
              </a:rPr>
              <a:t>Riippuv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2484000" y="4292640"/>
            <a:ext cx="3816360" cy="93672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liopohjainen 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68360" y="1916280"/>
            <a:ext cx="1366920" cy="165708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32360" y="1916280"/>
            <a:ext cx="1295280" cy="1800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834920" y="2708280"/>
            <a:ext cx="3097080" cy="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924360" y="3789360"/>
            <a:ext cx="1295280" cy="1800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1763640" y="3213000"/>
            <a:ext cx="2232000" cy="1008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liopohjainen mallijärjes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47640" y="2133720"/>
            <a:ext cx="64800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364000" y="2924280"/>
            <a:ext cx="681120" cy="8604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924360" y="3789360"/>
            <a:ext cx="681120" cy="8604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08000" y="3933720"/>
            <a:ext cx="576360" cy="7192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203640" y="206064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04000" y="191628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04000" y="3139920"/>
            <a:ext cx="647640" cy="792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11280" y="3284640"/>
            <a:ext cx="64800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084720" y="4437000"/>
            <a:ext cx="648000" cy="79236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32000" y="450864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667640" y="4653000"/>
            <a:ext cx="647640" cy="7920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7bc1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050920" y="2852640"/>
            <a:ext cx="433440" cy="5050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35280" y="2852640"/>
            <a:ext cx="432000" cy="93672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059280" y="3789360"/>
            <a:ext cx="865080" cy="360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572000" y="3573360"/>
            <a:ext cx="792000" cy="432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867280" y="3716280"/>
            <a:ext cx="433440" cy="792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4437000"/>
            <a:ext cx="1584360" cy="43200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08720" y="3860640"/>
            <a:ext cx="503280" cy="79236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5940000" y="2492280"/>
            <a:ext cx="863640" cy="50508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093080" y="2708280"/>
            <a:ext cx="0" cy="43344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732720" y="4941720"/>
            <a:ext cx="863640" cy="71640"/>
          </a:xfrm>
          <a:prstGeom prst="line">
            <a:avLst/>
          </a:prstGeom>
          <a:ln w="50760">
            <a:solidFill>
              <a:srgbClr val="7bc1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men saatavuud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to jostakin ilmiöstä on avoimesti saatavilla jos ja vain j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unmies voi kymmenessä minuu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y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 var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mmär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teellisesti pätevän, ajankohtaisen kuvauksen ilmiön tilasta ja kuvauksen siitä, miten tilanne muuttuisi jos ilmiön jonk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ytekijän vaiku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uttuisi,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ma tieto on koneluettavassa muodossa standardirajapinnan yli internetissä vapaan käyttöoikeuden piiri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ostusteor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aha mittaa hyvin asioita, jotka vähenevät itseltä kun niitä antaa pois (tava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ostus mittaa hyvin asioita, jota voi monistaa eikä se vähene (tie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nkilö saa muilta arvostuspisteitä (onoreita) sen perusteella, kuinka paljon ja kuinka hienoa tietoa hän on jakanut vapaaseen käyttöö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äyttökoht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olitiikan mallittaminen joukkoyhteistyön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eellinen meriitti (julkaisut histori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ähkökirjojen tai tiedonvälityksen käyttö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i luultavasti auta vuokranmaksu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Johtaa ainakin aluksi järjestelmään, jossa tietoa tuottavat ne, joilla on perustoimeentulo muualta ja jotka hakevat sisältöä elämääns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esti myöhemmin arvostuksella voi saada rahanarvoisia asio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559040"/>
            <a:ext cx="82072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Yhdistelmäliikenne</a:t>
            </a:r>
            <a:br>
              <a:rPr sz="28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 uusi näkökulma liikenteeseen ja terveyte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arko Tai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Ympäristöterveyden osa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en pitäisi organisoitu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Wiki”puolueen” järjestäytyminen eduskuntavaaleih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ailmanpelastuksen opetusohjelman perustaminen Otavan opist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ktivistiryhmien perustaminen oman mielenkiinnon kohteena olevan asian avoimeen, kriittiseen käsittelyy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ktivistiryhmien vetäjien kouluttami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si liikenne ympäristöterveyden tutkimuskohteen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96680"/>
            <a:ext cx="8218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ienhiukkaset keskeinen ongelma (CAFE: yli </a:t>
            </a:r>
            <a:br>
              <a:rPr sz="2600"/>
            </a:b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300 000 ennenaikaista kuolemaa/vuosi Euroopas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iikenteen merkitys korostunut ja korostu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ikennemäärät lisäänty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istus lähellä ihmi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ääntyvä näyttö dieselhiukkasten haito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ikenteen muut hait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nettomuu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uh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685800" y="1295280"/>
            <a:ext cx="1828800" cy="685800"/>
            <a:chOff x="685800" y="1295280"/>
            <a:chExt cx="1828800" cy="685800"/>
          </a:xfrm>
        </p:grpSpPr>
        <p:sp>
          <p:nvSpPr>
            <p:cNvPr id="112" name=""/>
            <p:cNvSpPr/>
            <p:nvPr/>
          </p:nvSpPr>
          <p:spPr>
            <a:xfrm>
              <a:off x="6858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34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8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238880" y="2971800"/>
            <a:ext cx="457200" cy="837720"/>
            <a:chOff x="7238880" y="2971800"/>
            <a:chExt cx="457200" cy="837720"/>
          </a:xfrm>
        </p:grpSpPr>
        <p:sp>
          <p:nvSpPr>
            <p:cNvPr id="116" name=""/>
            <p:cNvSpPr/>
            <p:nvPr/>
          </p:nvSpPr>
          <p:spPr>
            <a:xfrm>
              <a:off x="737532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888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119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295280"/>
            <a:ext cx="1828800" cy="685800"/>
            <a:chOff x="2819520" y="1295280"/>
            <a:chExt cx="1828800" cy="685800"/>
          </a:xfrm>
        </p:grpSpPr>
        <p:sp>
          <p:nvSpPr>
            <p:cNvPr id="129" name=""/>
            <p:cNvSpPr/>
            <p:nvPr/>
          </p:nvSpPr>
          <p:spPr>
            <a:xfrm>
              <a:off x="281952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8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2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73520" y="1341360"/>
            <a:ext cx="268200" cy="514440"/>
            <a:chOff x="3773520" y="1341360"/>
            <a:chExt cx="268200" cy="514440"/>
          </a:xfrm>
        </p:grpSpPr>
        <p:sp>
          <p:nvSpPr>
            <p:cNvPr id="133" name=""/>
            <p:cNvSpPr/>
            <p:nvPr/>
          </p:nvSpPr>
          <p:spPr>
            <a:xfrm>
              <a:off x="377640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743200" y="1447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1295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6765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4343400"/>
            <a:ext cx="1828800" cy="685800"/>
            <a:chOff x="685800" y="4343400"/>
            <a:chExt cx="1828800" cy="685800"/>
          </a:xfrm>
        </p:grpSpPr>
        <p:sp>
          <p:nvSpPr>
            <p:cNvPr id="143" name=""/>
            <p:cNvSpPr/>
            <p:nvPr/>
          </p:nvSpPr>
          <p:spPr>
            <a:xfrm>
              <a:off x="685800" y="4343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34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8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39800" y="4389480"/>
            <a:ext cx="268200" cy="514440"/>
            <a:chOff x="1639800" y="4389480"/>
            <a:chExt cx="268200" cy="514440"/>
          </a:xfrm>
        </p:grpSpPr>
        <p:sp>
          <p:nvSpPr>
            <p:cNvPr id="147" name=""/>
            <p:cNvSpPr/>
            <p:nvPr/>
          </p:nvSpPr>
          <p:spPr>
            <a:xfrm>
              <a:off x="1642680" y="4389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39800" y="4543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9480" y="4495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191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191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724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086600" y="1295280"/>
            <a:ext cx="1828800" cy="685800"/>
            <a:chOff x="7086600" y="1295280"/>
            <a:chExt cx="1828800" cy="685800"/>
          </a:xfrm>
        </p:grpSpPr>
        <p:sp>
          <p:nvSpPr>
            <p:cNvPr id="157" name=""/>
            <p:cNvSpPr/>
            <p:nvPr/>
          </p:nvSpPr>
          <p:spPr>
            <a:xfrm>
              <a:off x="70866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35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09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40600" y="1341360"/>
            <a:ext cx="268200" cy="514440"/>
            <a:chOff x="8040600" y="1341360"/>
            <a:chExt cx="268200" cy="514440"/>
          </a:xfrm>
        </p:grpSpPr>
        <p:sp>
          <p:nvSpPr>
            <p:cNvPr id="161" name=""/>
            <p:cNvSpPr/>
            <p:nvPr/>
          </p:nvSpPr>
          <p:spPr>
            <a:xfrm>
              <a:off x="80434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406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70102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72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800" y="2209680"/>
            <a:ext cx="1828800" cy="685800"/>
            <a:chOff x="685800" y="2209680"/>
            <a:chExt cx="1828800" cy="685800"/>
          </a:xfrm>
        </p:grpSpPr>
        <p:sp>
          <p:nvSpPr>
            <p:cNvPr id="171" name=""/>
            <p:cNvSpPr/>
            <p:nvPr/>
          </p:nvSpPr>
          <p:spPr>
            <a:xfrm>
              <a:off x="6858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4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08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639800" y="2255760"/>
            <a:ext cx="268200" cy="514440"/>
            <a:chOff x="1639800" y="2255760"/>
            <a:chExt cx="268200" cy="514440"/>
          </a:xfrm>
        </p:grpSpPr>
        <p:sp>
          <p:nvSpPr>
            <p:cNvPr id="175" name=""/>
            <p:cNvSpPr/>
            <p:nvPr/>
          </p:nvSpPr>
          <p:spPr>
            <a:xfrm>
              <a:off x="16426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98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094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19520" y="2209680"/>
            <a:ext cx="1828800" cy="685800"/>
            <a:chOff x="2819520" y="2209680"/>
            <a:chExt cx="1828800" cy="685800"/>
          </a:xfrm>
        </p:grpSpPr>
        <p:sp>
          <p:nvSpPr>
            <p:cNvPr id="185" name=""/>
            <p:cNvSpPr/>
            <p:nvPr/>
          </p:nvSpPr>
          <p:spPr>
            <a:xfrm>
              <a:off x="28195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68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2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773520" y="2255760"/>
            <a:ext cx="268200" cy="514440"/>
            <a:chOff x="3773520" y="2255760"/>
            <a:chExt cx="268200" cy="514440"/>
          </a:xfrm>
        </p:grpSpPr>
        <p:sp>
          <p:nvSpPr>
            <p:cNvPr id="189" name=""/>
            <p:cNvSpPr/>
            <p:nvPr/>
          </p:nvSpPr>
          <p:spPr>
            <a:xfrm>
              <a:off x="37764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35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432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29200" y="2209680"/>
            <a:ext cx="1828800" cy="685800"/>
            <a:chOff x="5029200" y="2209680"/>
            <a:chExt cx="1828800" cy="685800"/>
          </a:xfrm>
        </p:grpSpPr>
        <p:sp>
          <p:nvSpPr>
            <p:cNvPr id="199" name=""/>
            <p:cNvSpPr/>
            <p:nvPr/>
          </p:nvSpPr>
          <p:spPr>
            <a:xfrm>
              <a:off x="50292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8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2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983200" y="2255760"/>
            <a:ext cx="268200" cy="514440"/>
            <a:chOff x="5983200" y="2255760"/>
            <a:chExt cx="268200" cy="514440"/>
          </a:xfrm>
        </p:grpSpPr>
        <p:sp>
          <p:nvSpPr>
            <p:cNvPr id="203" name=""/>
            <p:cNvSpPr/>
            <p:nvPr/>
          </p:nvSpPr>
          <p:spPr>
            <a:xfrm>
              <a:off x="59860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32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9528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162920" y="2209680"/>
            <a:ext cx="1828800" cy="685800"/>
            <a:chOff x="7162920" y="2209680"/>
            <a:chExt cx="1828800" cy="685800"/>
          </a:xfrm>
        </p:grpSpPr>
        <p:sp>
          <p:nvSpPr>
            <p:cNvPr id="213" name=""/>
            <p:cNvSpPr/>
            <p:nvPr/>
          </p:nvSpPr>
          <p:spPr>
            <a:xfrm>
              <a:off x="71629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11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85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8116920" y="2255760"/>
            <a:ext cx="268200" cy="514440"/>
            <a:chOff x="8116920" y="2255760"/>
            <a:chExt cx="268200" cy="514440"/>
          </a:xfrm>
        </p:grpSpPr>
        <p:sp>
          <p:nvSpPr>
            <p:cNvPr id="217" name=""/>
            <p:cNvSpPr/>
            <p:nvPr/>
          </p:nvSpPr>
          <p:spPr>
            <a:xfrm>
              <a:off x="81198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169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0866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868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296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3048120"/>
            <a:ext cx="1828800" cy="685800"/>
            <a:chOff x="762120" y="3048120"/>
            <a:chExt cx="1828800" cy="685800"/>
          </a:xfrm>
        </p:grpSpPr>
        <p:sp>
          <p:nvSpPr>
            <p:cNvPr id="227" name=""/>
            <p:cNvSpPr/>
            <p:nvPr/>
          </p:nvSpPr>
          <p:spPr>
            <a:xfrm>
              <a:off x="762120" y="30481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10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84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716120" y="3094200"/>
            <a:ext cx="268200" cy="514080"/>
            <a:chOff x="1716120" y="3094200"/>
            <a:chExt cx="268200" cy="514080"/>
          </a:xfrm>
        </p:grpSpPr>
        <p:sp>
          <p:nvSpPr>
            <p:cNvPr id="231" name=""/>
            <p:cNvSpPr/>
            <p:nvPr/>
          </p:nvSpPr>
          <p:spPr>
            <a:xfrm>
              <a:off x="1719000" y="30942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6120" y="32486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85800" y="3200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3048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429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19520" y="3124080"/>
            <a:ext cx="1828800" cy="685800"/>
            <a:chOff x="2819520" y="3124080"/>
            <a:chExt cx="1828800" cy="685800"/>
          </a:xfrm>
        </p:grpSpPr>
        <p:sp>
          <p:nvSpPr>
            <p:cNvPr id="241" name=""/>
            <p:cNvSpPr/>
            <p:nvPr/>
          </p:nvSpPr>
          <p:spPr>
            <a:xfrm>
              <a:off x="281952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8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2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73520" y="3170160"/>
            <a:ext cx="268200" cy="514440"/>
            <a:chOff x="3773520" y="3170160"/>
            <a:chExt cx="268200" cy="514440"/>
          </a:xfrm>
        </p:grpSpPr>
        <p:sp>
          <p:nvSpPr>
            <p:cNvPr id="245" name=""/>
            <p:cNvSpPr/>
            <p:nvPr/>
          </p:nvSpPr>
          <p:spPr>
            <a:xfrm>
              <a:off x="377640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7352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743200" y="3276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3124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505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29200" y="3124080"/>
            <a:ext cx="1828800" cy="685800"/>
            <a:chOff x="5029200" y="3124080"/>
            <a:chExt cx="1828800" cy="685800"/>
          </a:xfrm>
        </p:grpSpPr>
        <p:sp>
          <p:nvSpPr>
            <p:cNvPr id="255" name=""/>
            <p:cNvSpPr/>
            <p:nvPr/>
          </p:nvSpPr>
          <p:spPr>
            <a:xfrm>
              <a:off x="502920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78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52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983200" y="3170160"/>
            <a:ext cx="268200" cy="514440"/>
            <a:chOff x="5983200" y="3170160"/>
            <a:chExt cx="268200" cy="514440"/>
          </a:xfrm>
        </p:grpSpPr>
        <p:sp>
          <p:nvSpPr>
            <p:cNvPr id="259" name=""/>
            <p:cNvSpPr/>
            <p:nvPr/>
          </p:nvSpPr>
          <p:spPr>
            <a:xfrm>
              <a:off x="598608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952880" y="3276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3124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895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2971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505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19520" y="4267080"/>
            <a:ext cx="1828800" cy="685800"/>
            <a:chOff x="2819520" y="4267080"/>
            <a:chExt cx="1828800" cy="685800"/>
          </a:xfrm>
        </p:grpSpPr>
        <p:sp>
          <p:nvSpPr>
            <p:cNvPr id="269" name=""/>
            <p:cNvSpPr/>
            <p:nvPr/>
          </p:nvSpPr>
          <p:spPr>
            <a:xfrm>
              <a:off x="281952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68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42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773520" y="4313160"/>
            <a:ext cx="268200" cy="514440"/>
            <a:chOff x="3773520" y="4313160"/>
            <a:chExt cx="268200" cy="514440"/>
          </a:xfrm>
        </p:grpSpPr>
        <p:sp>
          <p:nvSpPr>
            <p:cNvPr id="273" name=""/>
            <p:cNvSpPr/>
            <p:nvPr/>
          </p:nvSpPr>
          <p:spPr>
            <a:xfrm>
              <a:off x="377640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7352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74320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4648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3600" y="1143000"/>
            <a:ext cx="457200" cy="837720"/>
            <a:chOff x="5943600" y="1143000"/>
            <a:chExt cx="457200" cy="837720"/>
          </a:xfrm>
        </p:grpSpPr>
        <p:sp>
          <p:nvSpPr>
            <p:cNvPr id="283" name=""/>
            <p:cNvSpPr/>
            <p:nvPr/>
          </p:nvSpPr>
          <p:spPr>
            <a:xfrm>
              <a:off x="6080040" y="11430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43600" y="13726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52880" y="4114800"/>
            <a:ext cx="457200" cy="837720"/>
            <a:chOff x="4952880" y="4114800"/>
            <a:chExt cx="457200" cy="837720"/>
          </a:xfrm>
        </p:grpSpPr>
        <p:sp>
          <p:nvSpPr>
            <p:cNvPr id="286" name=""/>
            <p:cNvSpPr/>
            <p:nvPr/>
          </p:nvSpPr>
          <p:spPr>
            <a:xfrm>
              <a:off x="5089320" y="4114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4344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848720" y="2971800"/>
            <a:ext cx="457200" cy="837720"/>
            <a:chOff x="7848720" y="2971800"/>
            <a:chExt cx="457200" cy="837720"/>
          </a:xfrm>
        </p:grpSpPr>
        <p:sp>
          <p:nvSpPr>
            <p:cNvPr id="289" name=""/>
            <p:cNvSpPr/>
            <p:nvPr/>
          </p:nvSpPr>
          <p:spPr>
            <a:xfrm>
              <a:off x="798516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4872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295280" y="1371600"/>
            <a:ext cx="268560" cy="514440"/>
            <a:chOff x="1295280" y="1371600"/>
            <a:chExt cx="268560" cy="514440"/>
          </a:xfrm>
        </p:grpSpPr>
        <p:sp>
          <p:nvSpPr>
            <p:cNvPr id="292" name=""/>
            <p:cNvSpPr/>
            <p:nvPr/>
          </p:nvSpPr>
          <p:spPr>
            <a:xfrm>
              <a:off x="1298160" y="1371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15260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867280" y="4267080"/>
            <a:ext cx="1828800" cy="685800"/>
            <a:chOff x="5867280" y="4267080"/>
            <a:chExt cx="1828800" cy="685800"/>
          </a:xfrm>
        </p:grpSpPr>
        <p:sp>
          <p:nvSpPr>
            <p:cNvPr id="295" name=""/>
            <p:cNvSpPr/>
            <p:nvPr/>
          </p:nvSpPr>
          <p:spPr>
            <a:xfrm>
              <a:off x="586728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16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0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821640" y="4313160"/>
            <a:ext cx="268200" cy="514440"/>
            <a:chOff x="6821640" y="4313160"/>
            <a:chExt cx="268200" cy="514440"/>
          </a:xfrm>
        </p:grpSpPr>
        <p:sp>
          <p:nvSpPr>
            <p:cNvPr id="299" name=""/>
            <p:cNvSpPr/>
            <p:nvPr/>
          </p:nvSpPr>
          <p:spPr>
            <a:xfrm>
              <a:off x="682452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2164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79132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267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4038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4648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2120" y="5486400"/>
            <a:ext cx="1828800" cy="685800"/>
            <a:chOff x="762120" y="5486400"/>
            <a:chExt cx="1828800" cy="685800"/>
          </a:xfrm>
        </p:grpSpPr>
        <p:sp>
          <p:nvSpPr>
            <p:cNvPr id="309" name=""/>
            <p:cNvSpPr/>
            <p:nvPr/>
          </p:nvSpPr>
          <p:spPr>
            <a:xfrm>
              <a:off x="76212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10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84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16120" y="5532480"/>
            <a:ext cx="268200" cy="514440"/>
            <a:chOff x="1716120" y="5532480"/>
            <a:chExt cx="268200" cy="514440"/>
          </a:xfrm>
        </p:grpSpPr>
        <p:sp>
          <p:nvSpPr>
            <p:cNvPr id="313" name=""/>
            <p:cNvSpPr/>
            <p:nvPr/>
          </p:nvSpPr>
          <p:spPr>
            <a:xfrm>
              <a:off x="171900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1612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85800" y="5638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486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5867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971800" y="5486400"/>
            <a:ext cx="1828800" cy="685800"/>
            <a:chOff x="2971800" y="5486400"/>
            <a:chExt cx="1828800" cy="685800"/>
          </a:xfrm>
        </p:grpSpPr>
        <p:sp>
          <p:nvSpPr>
            <p:cNvPr id="323" name=""/>
            <p:cNvSpPr/>
            <p:nvPr/>
          </p:nvSpPr>
          <p:spPr>
            <a:xfrm>
              <a:off x="297180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0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94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925800" y="5532480"/>
            <a:ext cx="268200" cy="514440"/>
            <a:chOff x="3925800" y="5532480"/>
            <a:chExt cx="268200" cy="514440"/>
          </a:xfrm>
        </p:grpSpPr>
        <p:sp>
          <p:nvSpPr>
            <p:cNvPr id="327" name=""/>
            <p:cNvSpPr/>
            <p:nvPr/>
          </p:nvSpPr>
          <p:spPr>
            <a:xfrm>
              <a:off x="392868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2580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95480" y="5638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5486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5334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5867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400800" y="5410080"/>
            <a:ext cx="1828800" cy="685800"/>
            <a:chOff x="6400800" y="5410080"/>
            <a:chExt cx="1828800" cy="685800"/>
          </a:xfrm>
        </p:grpSpPr>
        <p:sp>
          <p:nvSpPr>
            <p:cNvPr id="337" name=""/>
            <p:cNvSpPr/>
            <p:nvPr/>
          </p:nvSpPr>
          <p:spPr>
            <a:xfrm>
              <a:off x="6400800" y="5410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9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23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354800" y="5456160"/>
            <a:ext cx="268200" cy="514440"/>
            <a:chOff x="7354800" y="5456160"/>
            <a:chExt cx="268200" cy="514440"/>
          </a:xfrm>
        </p:grpSpPr>
        <p:sp>
          <p:nvSpPr>
            <p:cNvPr id="341" name=""/>
            <p:cNvSpPr/>
            <p:nvPr/>
          </p:nvSpPr>
          <p:spPr>
            <a:xfrm>
              <a:off x="7357680" y="5456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4800" y="5610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24480" y="5562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5410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5181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24680" y="5181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791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105520" y="1066680"/>
            <a:ext cx="457200" cy="838080"/>
            <a:chOff x="5105520" y="1066680"/>
            <a:chExt cx="457200" cy="838080"/>
          </a:xfrm>
        </p:grpSpPr>
        <p:sp>
          <p:nvSpPr>
            <p:cNvPr id="351" name=""/>
            <p:cNvSpPr/>
            <p:nvPr/>
          </p:nvSpPr>
          <p:spPr>
            <a:xfrm>
              <a:off x="5241960" y="10666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5520" y="12963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354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219320" y="457200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2438280"/>
            <a:ext cx="30492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38680" y="2286000"/>
            <a:ext cx="268560" cy="514440"/>
            <a:chOff x="5638680" y="2286000"/>
            <a:chExt cx="268560" cy="514440"/>
          </a:xfrm>
        </p:grpSpPr>
        <p:sp>
          <p:nvSpPr>
            <p:cNvPr id="359" name=""/>
            <p:cNvSpPr/>
            <p:nvPr/>
          </p:nvSpPr>
          <p:spPr>
            <a:xfrm>
              <a:off x="5641560" y="22860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24404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371600" y="5562720"/>
            <a:ext cx="268200" cy="514080"/>
            <a:chOff x="1371600" y="5562720"/>
            <a:chExt cx="268200" cy="514080"/>
          </a:xfrm>
        </p:grpSpPr>
        <p:sp>
          <p:nvSpPr>
            <p:cNvPr id="362" name=""/>
            <p:cNvSpPr/>
            <p:nvPr/>
          </p:nvSpPr>
          <p:spPr>
            <a:xfrm>
              <a:off x="1374480" y="55627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71600" y="571716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Nykyinen henkilöautolii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685800" y="1295280"/>
            <a:ext cx="1828800" cy="685800"/>
            <a:chOff x="685800" y="1295280"/>
            <a:chExt cx="1828800" cy="685800"/>
          </a:xfrm>
        </p:grpSpPr>
        <p:sp>
          <p:nvSpPr>
            <p:cNvPr id="366" name=""/>
            <p:cNvSpPr/>
            <p:nvPr/>
          </p:nvSpPr>
          <p:spPr>
            <a:xfrm>
              <a:off x="6858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4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08640" y="1766880"/>
              <a:ext cx="222840" cy="21420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238880" y="2971800"/>
            <a:ext cx="457200" cy="837720"/>
            <a:chOff x="7238880" y="2971800"/>
            <a:chExt cx="457200" cy="837720"/>
          </a:xfrm>
        </p:grpSpPr>
        <p:sp>
          <p:nvSpPr>
            <p:cNvPr id="370" name=""/>
            <p:cNvSpPr/>
            <p:nvPr/>
          </p:nvSpPr>
          <p:spPr>
            <a:xfrm>
              <a:off x="737532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3888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639800" y="1341360"/>
            <a:ext cx="268200" cy="514440"/>
            <a:chOff x="1639800" y="1341360"/>
            <a:chExt cx="268200" cy="514440"/>
          </a:xfrm>
        </p:grpSpPr>
        <p:sp>
          <p:nvSpPr>
            <p:cNvPr id="373" name=""/>
            <p:cNvSpPr/>
            <p:nvPr/>
          </p:nvSpPr>
          <p:spPr>
            <a:xfrm>
              <a:off x="16426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398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094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819520" y="1295280"/>
            <a:ext cx="1828800" cy="685800"/>
            <a:chOff x="2819520" y="1295280"/>
            <a:chExt cx="1828800" cy="685800"/>
          </a:xfrm>
        </p:grpSpPr>
        <p:sp>
          <p:nvSpPr>
            <p:cNvPr id="383" name=""/>
            <p:cNvSpPr/>
            <p:nvPr/>
          </p:nvSpPr>
          <p:spPr>
            <a:xfrm>
              <a:off x="281952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68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2360" y="1766880"/>
              <a:ext cx="222840" cy="2142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773520" y="1341360"/>
            <a:ext cx="268200" cy="514440"/>
            <a:chOff x="3773520" y="1341360"/>
            <a:chExt cx="268200" cy="514440"/>
          </a:xfrm>
        </p:grpSpPr>
        <p:sp>
          <p:nvSpPr>
            <p:cNvPr id="387" name=""/>
            <p:cNvSpPr/>
            <p:nvPr/>
          </p:nvSpPr>
          <p:spPr>
            <a:xfrm>
              <a:off x="377640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7352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743200" y="1447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1952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295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16765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4343400"/>
            <a:ext cx="1828800" cy="685800"/>
            <a:chOff x="685800" y="4343400"/>
            <a:chExt cx="1828800" cy="685800"/>
          </a:xfrm>
        </p:grpSpPr>
        <p:sp>
          <p:nvSpPr>
            <p:cNvPr id="397" name=""/>
            <p:cNvSpPr/>
            <p:nvPr/>
          </p:nvSpPr>
          <p:spPr>
            <a:xfrm>
              <a:off x="685800" y="4343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34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8640" y="4815000"/>
              <a:ext cx="222840" cy="214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639800" y="4389480"/>
            <a:ext cx="268200" cy="514440"/>
            <a:chOff x="1639800" y="4389480"/>
            <a:chExt cx="268200" cy="514440"/>
          </a:xfrm>
        </p:grpSpPr>
        <p:sp>
          <p:nvSpPr>
            <p:cNvPr id="401" name=""/>
            <p:cNvSpPr/>
            <p:nvPr/>
          </p:nvSpPr>
          <p:spPr>
            <a:xfrm>
              <a:off x="1642680" y="4389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9800" y="4543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09480" y="4495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4191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4343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4191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4724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086600" y="1295280"/>
            <a:ext cx="1828800" cy="685800"/>
            <a:chOff x="7086600" y="1295280"/>
            <a:chExt cx="1828800" cy="685800"/>
          </a:xfrm>
        </p:grpSpPr>
        <p:sp>
          <p:nvSpPr>
            <p:cNvPr id="411" name=""/>
            <p:cNvSpPr/>
            <p:nvPr/>
          </p:nvSpPr>
          <p:spPr>
            <a:xfrm>
              <a:off x="7086600" y="12952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35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09440" y="1766880"/>
              <a:ext cx="222840" cy="21420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8040600" y="1341360"/>
            <a:ext cx="268200" cy="514440"/>
            <a:chOff x="8040600" y="1341360"/>
            <a:chExt cx="268200" cy="514440"/>
          </a:xfrm>
        </p:grpSpPr>
        <p:sp>
          <p:nvSpPr>
            <p:cNvPr id="415" name=""/>
            <p:cNvSpPr/>
            <p:nvPr/>
          </p:nvSpPr>
          <p:spPr>
            <a:xfrm>
              <a:off x="8043480" y="13413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40600" y="14958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010280" y="1447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11430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1520" y="1295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066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10480" y="1066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1143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1676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85800" y="2209680"/>
            <a:ext cx="1828800" cy="685800"/>
            <a:chOff x="685800" y="2209680"/>
            <a:chExt cx="1828800" cy="685800"/>
          </a:xfrm>
        </p:grpSpPr>
        <p:sp>
          <p:nvSpPr>
            <p:cNvPr id="425" name=""/>
            <p:cNvSpPr/>
            <p:nvPr/>
          </p:nvSpPr>
          <p:spPr>
            <a:xfrm>
              <a:off x="6858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4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8640" y="2681280"/>
              <a:ext cx="222840" cy="2142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639800" y="2255760"/>
            <a:ext cx="268200" cy="514440"/>
            <a:chOff x="1639800" y="2255760"/>
            <a:chExt cx="268200" cy="514440"/>
          </a:xfrm>
        </p:grpSpPr>
        <p:sp>
          <p:nvSpPr>
            <p:cNvPr id="429" name=""/>
            <p:cNvSpPr/>
            <p:nvPr/>
          </p:nvSpPr>
          <p:spPr>
            <a:xfrm>
              <a:off x="16426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398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094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819520" y="2209680"/>
            <a:ext cx="1828800" cy="685800"/>
            <a:chOff x="2819520" y="2209680"/>
            <a:chExt cx="1828800" cy="685800"/>
          </a:xfrm>
        </p:grpSpPr>
        <p:sp>
          <p:nvSpPr>
            <p:cNvPr id="439" name=""/>
            <p:cNvSpPr/>
            <p:nvPr/>
          </p:nvSpPr>
          <p:spPr>
            <a:xfrm>
              <a:off x="28195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68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2360" y="2681280"/>
              <a:ext cx="222840" cy="214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773520" y="2255760"/>
            <a:ext cx="268200" cy="514440"/>
            <a:chOff x="3773520" y="2255760"/>
            <a:chExt cx="268200" cy="514440"/>
          </a:xfrm>
        </p:grpSpPr>
        <p:sp>
          <p:nvSpPr>
            <p:cNvPr id="443" name=""/>
            <p:cNvSpPr/>
            <p:nvPr/>
          </p:nvSpPr>
          <p:spPr>
            <a:xfrm>
              <a:off x="37764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735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27432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5053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029200" y="2209680"/>
            <a:ext cx="1828800" cy="685800"/>
            <a:chOff x="5029200" y="2209680"/>
            <a:chExt cx="1828800" cy="685800"/>
          </a:xfrm>
        </p:grpSpPr>
        <p:sp>
          <p:nvSpPr>
            <p:cNvPr id="453" name=""/>
            <p:cNvSpPr/>
            <p:nvPr/>
          </p:nvSpPr>
          <p:spPr>
            <a:xfrm>
              <a:off x="502920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78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52040" y="2681280"/>
              <a:ext cx="222840" cy="214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983200" y="2255760"/>
            <a:ext cx="268200" cy="514440"/>
            <a:chOff x="5983200" y="2255760"/>
            <a:chExt cx="268200" cy="514440"/>
          </a:xfrm>
        </p:grpSpPr>
        <p:sp>
          <p:nvSpPr>
            <p:cNvPr id="457" name=""/>
            <p:cNvSpPr/>
            <p:nvPr/>
          </p:nvSpPr>
          <p:spPr>
            <a:xfrm>
              <a:off x="598608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8320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952880" y="2362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2209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1981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5880" y="2057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25909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162920" y="2209680"/>
            <a:ext cx="1828800" cy="685800"/>
            <a:chOff x="7162920" y="2209680"/>
            <a:chExt cx="1828800" cy="685800"/>
          </a:xfrm>
        </p:grpSpPr>
        <p:sp>
          <p:nvSpPr>
            <p:cNvPr id="467" name=""/>
            <p:cNvSpPr/>
            <p:nvPr/>
          </p:nvSpPr>
          <p:spPr>
            <a:xfrm>
              <a:off x="7162920" y="22096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11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85760" y="2681280"/>
              <a:ext cx="222840" cy="2142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8116920" y="2255760"/>
            <a:ext cx="268200" cy="514440"/>
            <a:chOff x="8116920" y="2255760"/>
            <a:chExt cx="268200" cy="514440"/>
          </a:xfrm>
        </p:grpSpPr>
        <p:sp>
          <p:nvSpPr>
            <p:cNvPr id="471" name=""/>
            <p:cNvSpPr/>
            <p:nvPr/>
          </p:nvSpPr>
          <p:spPr>
            <a:xfrm>
              <a:off x="8119800" y="22557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16920" y="24102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7086600" y="2362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6292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2209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4872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686800" y="1981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229600" y="2057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25909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62120" y="3048120"/>
            <a:ext cx="1828800" cy="685800"/>
            <a:chOff x="762120" y="3048120"/>
            <a:chExt cx="1828800" cy="685800"/>
          </a:xfrm>
        </p:grpSpPr>
        <p:sp>
          <p:nvSpPr>
            <p:cNvPr id="481" name=""/>
            <p:cNvSpPr/>
            <p:nvPr/>
          </p:nvSpPr>
          <p:spPr>
            <a:xfrm>
              <a:off x="762120" y="304812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0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84960" y="3519720"/>
              <a:ext cx="222840" cy="2142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716120" y="3094200"/>
            <a:ext cx="268200" cy="514080"/>
            <a:chOff x="1716120" y="3094200"/>
            <a:chExt cx="268200" cy="514080"/>
          </a:xfrm>
        </p:grpSpPr>
        <p:sp>
          <p:nvSpPr>
            <p:cNvPr id="485" name=""/>
            <p:cNvSpPr/>
            <p:nvPr/>
          </p:nvSpPr>
          <p:spPr>
            <a:xfrm>
              <a:off x="1719000" y="30942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16120" y="324864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85800" y="3200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3048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0" y="28195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288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4290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819520" y="3124080"/>
            <a:ext cx="1828800" cy="685800"/>
            <a:chOff x="2819520" y="3124080"/>
            <a:chExt cx="1828800" cy="685800"/>
          </a:xfrm>
        </p:grpSpPr>
        <p:sp>
          <p:nvSpPr>
            <p:cNvPr id="495" name=""/>
            <p:cNvSpPr/>
            <p:nvPr/>
          </p:nvSpPr>
          <p:spPr>
            <a:xfrm>
              <a:off x="281952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68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2360" y="3595680"/>
              <a:ext cx="222840" cy="2142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73520" y="3170160"/>
            <a:ext cx="268200" cy="514440"/>
            <a:chOff x="3773520" y="3170160"/>
            <a:chExt cx="268200" cy="514440"/>
          </a:xfrm>
        </p:grpSpPr>
        <p:sp>
          <p:nvSpPr>
            <p:cNvPr id="499" name=""/>
            <p:cNvSpPr/>
            <p:nvPr/>
          </p:nvSpPr>
          <p:spPr>
            <a:xfrm>
              <a:off x="377640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7352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743200" y="3276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3124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3505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29200" y="3124080"/>
            <a:ext cx="1828800" cy="685800"/>
            <a:chOff x="5029200" y="3124080"/>
            <a:chExt cx="1828800" cy="685800"/>
          </a:xfrm>
        </p:grpSpPr>
        <p:sp>
          <p:nvSpPr>
            <p:cNvPr id="509" name=""/>
            <p:cNvSpPr/>
            <p:nvPr/>
          </p:nvSpPr>
          <p:spPr>
            <a:xfrm>
              <a:off x="5029200" y="3124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78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52040" y="3595680"/>
              <a:ext cx="222840" cy="214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983200" y="3170160"/>
            <a:ext cx="268200" cy="514440"/>
            <a:chOff x="5983200" y="3170160"/>
            <a:chExt cx="268200" cy="514440"/>
          </a:xfrm>
        </p:grpSpPr>
        <p:sp>
          <p:nvSpPr>
            <p:cNvPr id="513" name=""/>
            <p:cNvSpPr/>
            <p:nvPr/>
          </p:nvSpPr>
          <p:spPr>
            <a:xfrm>
              <a:off x="5986080" y="3170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83200" y="3324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4952880" y="3276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29200" y="2971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3124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2895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53080" y="2895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2971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3505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819520" y="4267080"/>
            <a:ext cx="1828800" cy="685800"/>
            <a:chOff x="2819520" y="4267080"/>
            <a:chExt cx="1828800" cy="685800"/>
          </a:xfrm>
        </p:grpSpPr>
        <p:sp>
          <p:nvSpPr>
            <p:cNvPr id="523" name=""/>
            <p:cNvSpPr/>
            <p:nvPr/>
          </p:nvSpPr>
          <p:spPr>
            <a:xfrm>
              <a:off x="281952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68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2360" y="4738680"/>
              <a:ext cx="222840" cy="214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73520" y="4313160"/>
            <a:ext cx="268200" cy="514440"/>
            <a:chOff x="3773520" y="4313160"/>
            <a:chExt cx="268200" cy="514440"/>
          </a:xfrm>
        </p:grpSpPr>
        <p:sp>
          <p:nvSpPr>
            <p:cNvPr id="527" name=""/>
            <p:cNvSpPr/>
            <p:nvPr/>
          </p:nvSpPr>
          <p:spPr>
            <a:xfrm>
              <a:off x="377640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352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274320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124080" y="42670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053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6483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943600" y="1143000"/>
            <a:ext cx="457200" cy="837720"/>
            <a:chOff x="5943600" y="1143000"/>
            <a:chExt cx="457200" cy="837720"/>
          </a:xfrm>
        </p:grpSpPr>
        <p:sp>
          <p:nvSpPr>
            <p:cNvPr id="537" name=""/>
            <p:cNvSpPr/>
            <p:nvPr/>
          </p:nvSpPr>
          <p:spPr>
            <a:xfrm>
              <a:off x="6080040" y="11430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43600" y="13726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952880" y="4114800"/>
            <a:ext cx="457200" cy="837720"/>
            <a:chOff x="4952880" y="4114800"/>
            <a:chExt cx="457200" cy="837720"/>
          </a:xfrm>
        </p:grpSpPr>
        <p:sp>
          <p:nvSpPr>
            <p:cNvPr id="540" name=""/>
            <p:cNvSpPr/>
            <p:nvPr/>
          </p:nvSpPr>
          <p:spPr>
            <a:xfrm>
              <a:off x="5089320" y="4114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52880" y="4344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848720" y="2971800"/>
            <a:ext cx="457200" cy="837720"/>
            <a:chOff x="7848720" y="2971800"/>
            <a:chExt cx="457200" cy="837720"/>
          </a:xfrm>
        </p:grpSpPr>
        <p:sp>
          <p:nvSpPr>
            <p:cNvPr id="543" name=""/>
            <p:cNvSpPr/>
            <p:nvPr/>
          </p:nvSpPr>
          <p:spPr>
            <a:xfrm>
              <a:off x="7985160" y="2971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48720" y="3201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295280" y="1371600"/>
            <a:ext cx="268560" cy="514440"/>
            <a:chOff x="1295280" y="1371600"/>
            <a:chExt cx="268560" cy="514440"/>
          </a:xfrm>
        </p:grpSpPr>
        <p:sp>
          <p:nvSpPr>
            <p:cNvPr id="546" name=""/>
            <p:cNvSpPr/>
            <p:nvPr/>
          </p:nvSpPr>
          <p:spPr>
            <a:xfrm>
              <a:off x="1298160" y="13716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95280" y="15260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67280" y="4267080"/>
            <a:ext cx="1828800" cy="685800"/>
            <a:chOff x="5867280" y="4267080"/>
            <a:chExt cx="1828800" cy="685800"/>
          </a:xfrm>
        </p:grpSpPr>
        <p:sp>
          <p:nvSpPr>
            <p:cNvPr id="549" name=""/>
            <p:cNvSpPr/>
            <p:nvPr/>
          </p:nvSpPr>
          <p:spPr>
            <a:xfrm>
              <a:off x="5867280" y="4267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16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120" y="4738680"/>
              <a:ext cx="222840" cy="21420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821640" y="4313160"/>
            <a:ext cx="268200" cy="514440"/>
            <a:chOff x="6821640" y="4313160"/>
            <a:chExt cx="268200" cy="514440"/>
          </a:xfrm>
        </p:grpSpPr>
        <p:sp>
          <p:nvSpPr>
            <p:cNvPr id="553" name=""/>
            <p:cNvSpPr/>
            <p:nvPr/>
          </p:nvSpPr>
          <p:spPr>
            <a:xfrm>
              <a:off x="6824520" y="4313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1640" y="4467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791320" y="44197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67280" y="4114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267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4038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4038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934320" y="4114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4648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62120" y="5486400"/>
            <a:ext cx="1828800" cy="685800"/>
            <a:chOff x="762120" y="5486400"/>
            <a:chExt cx="1828800" cy="685800"/>
          </a:xfrm>
        </p:grpSpPr>
        <p:sp>
          <p:nvSpPr>
            <p:cNvPr id="563" name=""/>
            <p:cNvSpPr/>
            <p:nvPr/>
          </p:nvSpPr>
          <p:spPr>
            <a:xfrm>
              <a:off x="76212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10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4960" y="5958000"/>
              <a:ext cx="222840" cy="21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716120" y="5532480"/>
            <a:ext cx="268200" cy="514440"/>
            <a:chOff x="1716120" y="5532480"/>
            <a:chExt cx="268200" cy="514440"/>
          </a:xfrm>
        </p:grpSpPr>
        <p:sp>
          <p:nvSpPr>
            <p:cNvPr id="567" name=""/>
            <p:cNvSpPr/>
            <p:nvPr/>
          </p:nvSpPr>
          <p:spPr>
            <a:xfrm>
              <a:off x="171900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1612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685800" y="56386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66680" y="54864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58672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71800" y="5486400"/>
            <a:ext cx="1828800" cy="685800"/>
            <a:chOff x="2971800" y="5486400"/>
            <a:chExt cx="1828800" cy="685800"/>
          </a:xfrm>
        </p:grpSpPr>
        <p:sp>
          <p:nvSpPr>
            <p:cNvPr id="577" name=""/>
            <p:cNvSpPr/>
            <p:nvPr/>
          </p:nvSpPr>
          <p:spPr>
            <a:xfrm>
              <a:off x="2971800" y="548640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0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94640" y="5958000"/>
              <a:ext cx="222840" cy="214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925800" y="5532480"/>
            <a:ext cx="268200" cy="514440"/>
            <a:chOff x="3925800" y="5532480"/>
            <a:chExt cx="268200" cy="514440"/>
          </a:xfrm>
        </p:grpSpPr>
        <p:sp>
          <p:nvSpPr>
            <p:cNvPr id="581" name=""/>
            <p:cNvSpPr/>
            <p:nvPr/>
          </p:nvSpPr>
          <p:spPr>
            <a:xfrm>
              <a:off x="3928680" y="553248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25800" y="568692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895480" y="56386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53341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54864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956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53341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58672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400800" y="5410080"/>
            <a:ext cx="1828800" cy="685800"/>
            <a:chOff x="6400800" y="5410080"/>
            <a:chExt cx="1828800" cy="685800"/>
          </a:xfrm>
        </p:grpSpPr>
        <p:sp>
          <p:nvSpPr>
            <p:cNvPr id="591" name=""/>
            <p:cNvSpPr/>
            <p:nvPr/>
          </p:nvSpPr>
          <p:spPr>
            <a:xfrm>
              <a:off x="6400800" y="5410080"/>
              <a:ext cx="1828800" cy="600120"/>
            </a:xfrm>
            <a:custGeom>
              <a:avLst/>
              <a:gdLst/>
              <a:ahLst/>
              <a:rect l="l" t="t" r="r" b="b"/>
              <a:pathLst>
                <a:path w="1968" h="672">
                  <a:moveTo>
                    <a:pt x="384" y="672"/>
                  </a:moveTo>
                  <a:lnTo>
                    <a:pt x="1968" y="672"/>
                  </a:lnTo>
                  <a:lnTo>
                    <a:pt x="1872" y="336"/>
                  </a:lnTo>
                  <a:lnTo>
                    <a:pt x="1344" y="288"/>
                  </a:lnTo>
                  <a:lnTo>
                    <a:pt x="1200" y="0"/>
                  </a:lnTo>
                  <a:lnTo>
                    <a:pt x="672" y="0"/>
                  </a:lnTo>
                  <a:lnTo>
                    <a:pt x="336" y="240"/>
                  </a:lnTo>
                  <a:lnTo>
                    <a:pt x="192" y="240"/>
                  </a:lnTo>
                  <a:lnTo>
                    <a:pt x="0" y="672"/>
                  </a:lnTo>
                  <a:lnTo>
                    <a:pt x="384" y="672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49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3640" y="5881680"/>
              <a:ext cx="222840" cy="214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354800" y="5456160"/>
            <a:ext cx="268200" cy="514440"/>
            <a:chOff x="7354800" y="5456160"/>
            <a:chExt cx="268200" cy="514440"/>
          </a:xfrm>
        </p:grpSpPr>
        <p:sp>
          <p:nvSpPr>
            <p:cNvPr id="595" name=""/>
            <p:cNvSpPr/>
            <p:nvPr/>
          </p:nvSpPr>
          <p:spPr>
            <a:xfrm>
              <a:off x="7357680" y="545616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54800" y="5610600"/>
              <a:ext cx="26820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324480" y="556272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525780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05720" y="54100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181480"/>
            <a:ext cx="7452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924680" y="5181480"/>
            <a:ext cx="74880" cy="7488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400" bIns="-23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67480" y="5257800"/>
            <a:ext cx="7488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248520" y="5791320"/>
            <a:ext cx="74520" cy="745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105520" y="1066680"/>
            <a:ext cx="457200" cy="838080"/>
            <a:chOff x="5105520" y="1066680"/>
            <a:chExt cx="457200" cy="838080"/>
          </a:xfrm>
        </p:grpSpPr>
        <p:sp>
          <p:nvSpPr>
            <p:cNvPr id="605" name=""/>
            <p:cNvSpPr/>
            <p:nvPr/>
          </p:nvSpPr>
          <p:spPr>
            <a:xfrm>
              <a:off x="5241960" y="1066680"/>
              <a:ext cx="262080" cy="2444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05520" y="1296360"/>
              <a:ext cx="457200" cy="60840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334120" y="5257800"/>
            <a:ext cx="457200" cy="837720"/>
            <a:chOff x="5334120" y="5257800"/>
            <a:chExt cx="457200" cy="837720"/>
          </a:xfrm>
        </p:grpSpPr>
        <p:sp>
          <p:nvSpPr>
            <p:cNvPr id="608" name=""/>
            <p:cNvSpPr/>
            <p:nvPr/>
          </p:nvSpPr>
          <p:spPr>
            <a:xfrm>
              <a:off x="5470560" y="5257800"/>
              <a:ext cx="262080" cy="2440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4120" y="5487480"/>
              <a:ext cx="457200" cy="608040"/>
            </a:xfrm>
            <a:custGeom>
              <a:avLst/>
              <a:gdLst/>
              <a:ahLst/>
              <a:rect l="l" t="t" r="r" b="b"/>
              <a:pathLst>
                <a:path w="502" h="717">
                  <a:moveTo>
                    <a:pt x="198" y="17"/>
                  </a:moveTo>
                  <a:cubicBezTo>
                    <a:pt x="184" y="25"/>
                    <a:pt x="145" y="15"/>
                    <a:pt x="115" y="67"/>
                  </a:cubicBezTo>
                  <a:cubicBezTo>
                    <a:pt x="85" y="119"/>
                    <a:pt x="19" y="283"/>
                    <a:pt x="16" y="331"/>
                  </a:cubicBezTo>
                  <a:cubicBezTo>
                    <a:pt x="13" y="379"/>
                    <a:pt x="73" y="385"/>
                    <a:pt x="95" y="357"/>
                  </a:cubicBezTo>
                  <a:cubicBezTo>
                    <a:pt x="117" y="329"/>
                    <a:pt x="141" y="154"/>
                    <a:pt x="150" y="161"/>
                  </a:cubicBezTo>
                  <a:cubicBezTo>
                    <a:pt x="159" y="168"/>
                    <a:pt x="155" y="332"/>
                    <a:pt x="150" y="401"/>
                  </a:cubicBezTo>
                  <a:cubicBezTo>
                    <a:pt x="145" y="470"/>
                    <a:pt x="142" y="542"/>
                    <a:pt x="122" y="575"/>
                  </a:cubicBezTo>
                  <a:cubicBezTo>
                    <a:pt x="102" y="608"/>
                    <a:pt x="48" y="584"/>
                    <a:pt x="29" y="601"/>
                  </a:cubicBezTo>
                  <a:cubicBezTo>
                    <a:pt x="10" y="618"/>
                    <a:pt x="0" y="666"/>
                    <a:pt x="10" y="680"/>
                  </a:cubicBezTo>
                  <a:cubicBezTo>
                    <a:pt x="20" y="694"/>
                    <a:pt x="55" y="689"/>
                    <a:pt x="89" y="687"/>
                  </a:cubicBezTo>
                  <a:cubicBezTo>
                    <a:pt x="123" y="685"/>
                    <a:pt x="183" y="695"/>
                    <a:pt x="214" y="667"/>
                  </a:cubicBezTo>
                  <a:cubicBezTo>
                    <a:pt x="245" y="639"/>
                    <a:pt x="252" y="518"/>
                    <a:pt x="273" y="522"/>
                  </a:cubicBezTo>
                  <a:cubicBezTo>
                    <a:pt x="294" y="526"/>
                    <a:pt x="322" y="661"/>
                    <a:pt x="342" y="689"/>
                  </a:cubicBezTo>
                  <a:cubicBezTo>
                    <a:pt x="362" y="717"/>
                    <a:pt x="368" y="693"/>
                    <a:pt x="392" y="693"/>
                  </a:cubicBezTo>
                  <a:cubicBezTo>
                    <a:pt x="416" y="693"/>
                    <a:pt x="470" y="706"/>
                    <a:pt x="486" y="689"/>
                  </a:cubicBezTo>
                  <a:cubicBezTo>
                    <a:pt x="502" y="672"/>
                    <a:pt x="498" y="611"/>
                    <a:pt x="486" y="593"/>
                  </a:cubicBezTo>
                  <a:cubicBezTo>
                    <a:pt x="474" y="575"/>
                    <a:pt x="429" y="604"/>
                    <a:pt x="412" y="581"/>
                  </a:cubicBezTo>
                  <a:cubicBezTo>
                    <a:pt x="395" y="558"/>
                    <a:pt x="390" y="524"/>
                    <a:pt x="385" y="456"/>
                  </a:cubicBezTo>
                  <a:cubicBezTo>
                    <a:pt x="380" y="388"/>
                    <a:pt x="371" y="186"/>
                    <a:pt x="379" y="172"/>
                  </a:cubicBezTo>
                  <a:cubicBezTo>
                    <a:pt x="387" y="158"/>
                    <a:pt x="413" y="336"/>
                    <a:pt x="432" y="370"/>
                  </a:cubicBezTo>
                  <a:cubicBezTo>
                    <a:pt x="451" y="404"/>
                    <a:pt x="492" y="429"/>
                    <a:pt x="491" y="377"/>
                  </a:cubicBezTo>
                  <a:cubicBezTo>
                    <a:pt x="490" y="325"/>
                    <a:pt x="445" y="120"/>
                    <a:pt x="425" y="60"/>
                  </a:cubicBezTo>
                  <a:cubicBezTo>
                    <a:pt x="405" y="0"/>
                    <a:pt x="386" y="21"/>
                    <a:pt x="372" y="1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219320" y="4572000"/>
            <a:ext cx="30456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52680" y="2438280"/>
            <a:ext cx="304920" cy="304920"/>
          </a:xfrm>
          <a:prstGeom prst="cube">
            <a:avLst>
              <a:gd name="adj" fmla="val 25000"/>
            </a:avLst>
          </a:prstGeom>
          <a:solidFill>
            <a:srgbClr val="7bc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638680" y="2286000"/>
            <a:ext cx="268560" cy="514440"/>
            <a:chOff x="5638680" y="2286000"/>
            <a:chExt cx="268560" cy="514440"/>
          </a:xfrm>
        </p:grpSpPr>
        <p:sp>
          <p:nvSpPr>
            <p:cNvPr id="613" name=""/>
            <p:cNvSpPr/>
            <p:nvPr/>
          </p:nvSpPr>
          <p:spPr>
            <a:xfrm>
              <a:off x="5641560" y="228600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38680" y="2440440"/>
              <a:ext cx="268560" cy="36000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371600" y="5562720"/>
            <a:ext cx="268200" cy="514080"/>
            <a:chOff x="1371600" y="5562720"/>
            <a:chExt cx="268200" cy="514080"/>
          </a:xfrm>
        </p:grpSpPr>
        <p:sp>
          <p:nvSpPr>
            <p:cNvPr id="616" name=""/>
            <p:cNvSpPr/>
            <p:nvPr/>
          </p:nvSpPr>
          <p:spPr>
            <a:xfrm>
              <a:off x="1374480" y="5562720"/>
              <a:ext cx="155160" cy="1648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71600" y="5717160"/>
              <a:ext cx="268200" cy="359640"/>
            </a:xfrm>
            <a:custGeom>
              <a:avLst/>
              <a:gdLst/>
              <a:ahLst/>
              <a:rect l="l" t="t" r="r" b="b"/>
              <a:pathLst>
                <a:path w="498" h="628">
                  <a:moveTo>
                    <a:pt x="96" y="18"/>
                  </a:moveTo>
                  <a:cubicBezTo>
                    <a:pt x="80" y="18"/>
                    <a:pt x="64" y="18"/>
                    <a:pt x="48" y="66"/>
                  </a:cubicBezTo>
                  <a:cubicBezTo>
                    <a:pt x="32" y="114"/>
                    <a:pt x="0" y="250"/>
                    <a:pt x="0" y="306"/>
                  </a:cubicBezTo>
                  <a:cubicBezTo>
                    <a:pt x="0" y="362"/>
                    <a:pt x="8" y="386"/>
                    <a:pt x="48" y="402"/>
                  </a:cubicBezTo>
                  <a:cubicBezTo>
                    <a:pt x="88" y="418"/>
                    <a:pt x="200" y="370"/>
                    <a:pt x="240" y="402"/>
                  </a:cubicBezTo>
                  <a:cubicBezTo>
                    <a:pt x="280" y="434"/>
                    <a:pt x="249" y="560"/>
                    <a:pt x="288" y="594"/>
                  </a:cubicBezTo>
                  <a:cubicBezTo>
                    <a:pt x="327" y="628"/>
                    <a:pt x="448" y="618"/>
                    <a:pt x="473" y="607"/>
                  </a:cubicBezTo>
                  <a:cubicBezTo>
                    <a:pt x="498" y="596"/>
                    <a:pt x="459" y="542"/>
                    <a:pt x="440" y="528"/>
                  </a:cubicBezTo>
                  <a:cubicBezTo>
                    <a:pt x="421" y="514"/>
                    <a:pt x="376" y="554"/>
                    <a:pt x="361" y="521"/>
                  </a:cubicBezTo>
                  <a:cubicBezTo>
                    <a:pt x="346" y="488"/>
                    <a:pt x="359" y="368"/>
                    <a:pt x="348" y="330"/>
                  </a:cubicBezTo>
                  <a:cubicBezTo>
                    <a:pt x="337" y="292"/>
                    <a:pt x="319" y="301"/>
                    <a:pt x="295" y="290"/>
                  </a:cubicBezTo>
                  <a:cubicBezTo>
                    <a:pt x="271" y="279"/>
                    <a:pt x="220" y="284"/>
                    <a:pt x="203" y="264"/>
                  </a:cubicBezTo>
                  <a:cubicBezTo>
                    <a:pt x="186" y="244"/>
                    <a:pt x="183" y="172"/>
                    <a:pt x="196" y="172"/>
                  </a:cubicBezTo>
                  <a:cubicBezTo>
                    <a:pt x="209" y="172"/>
                    <a:pt x="255" y="247"/>
                    <a:pt x="282" y="264"/>
                  </a:cubicBezTo>
                  <a:cubicBezTo>
                    <a:pt x="309" y="281"/>
                    <a:pt x="362" y="300"/>
                    <a:pt x="355" y="271"/>
                  </a:cubicBezTo>
                  <a:cubicBezTo>
                    <a:pt x="348" y="242"/>
                    <a:pt x="265" y="137"/>
                    <a:pt x="242" y="92"/>
                  </a:cubicBezTo>
                  <a:cubicBezTo>
                    <a:pt x="219" y="47"/>
                    <a:pt x="221" y="15"/>
                    <a:pt x="216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kä liikenteessä on se olennaine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1219320" y="1066680"/>
            <a:ext cx="7165800" cy="5028840"/>
            <a:chOff x="1219320" y="1066680"/>
            <a:chExt cx="7165800" cy="5028840"/>
          </a:xfrm>
        </p:grpSpPr>
        <p:grpSp>
          <p:nvGrpSpPr>
            <p:cNvPr id="620" name=""/>
            <p:cNvGrpSpPr/>
            <p:nvPr/>
          </p:nvGrpSpPr>
          <p:grpSpPr>
            <a:xfrm>
              <a:off x="7238880" y="2971800"/>
              <a:ext cx="457200" cy="837720"/>
              <a:chOff x="7238880" y="2971800"/>
              <a:chExt cx="457200" cy="83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7375320" y="2971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38880" y="3201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1639800" y="1341360"/>
              <a:ext cx="268200" cy="514440"/>
              <a:chOff x="1639800" y="1341360"/>
              <a:chExt cx="268200" cy="514440"/>
            </a:xfrm>
          </p:grpSpPr>
          <p:sp>
            <p:nvSpPr>
              <p:cNvPr id="624" name=""/>
              <p:cNvSpPr/>
              <p:nvPr/>
            </p:nvSpPr>
            <p:spPr>
              <a:xfrm>
                <a:off x="164268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3980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3773520" y="1341360"/>
              <a:ext cx="268200" cy="514440"/>
              <a:chOff x="3773520" y="1341360"/>
              <a:chExt cx="268200" cy="514440"/>
            </a:xfrm>
          </p:grpSpPr>
          <p:sp>
            <p:nvSpPr>
              <p:cNvPr id="627" name=""/>
              <p:cNvSpPr/>
              <p:nvPr/>
            </p:nvSpPr>
            <p:spPr>
              <a:xfrm>
                <a:off x="377640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7352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639800" y="4389480"/>
              <a:ext cx="268200" cy="514440"/>
              <a:chOff x="1639800" y="4389480"/>
              <a:chExt cx="268200" cy="514440"/>
            </a:xfrm>
          </p:grpSpPr>
          <p:sp>
            <p:nvSpPr>
              <p:cNvPr id="630" name=""/>
              <p:cNvSpPr/>
              <p:nvPr/>
            </p:nvSpPr>
            <p:spPr>
              <a:xfrm>
                <a:off x="1642680" y="4389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639800" y="4543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8040600" y="1341360"/>
              <a:ext cx="268200" cy="514440"/>
              <a:chOff x="8040600" y="1341360"/>
              <a:chExt cx="268200" cy="514440"/>
            </a:xfrm>
          </p:grpSpPr>
          <p:sp>
            <p:nvSpPr>
              <p:cNvPr id="633" name=""/>
              <p:cNvSpPr/>
              <p:nvPr/>
            </p:nvSpPr>
            <p:spPr>
              <a:xfrm>
                <a:off x="8043480" y="13413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040600" y="14958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639800" y="2255760"/>
              <a:ext cx="268200" cy="514440"/>
              <a:chOff x="1639800" y="2255760"/>
              <a:chExt cx="268200" cy="514440"/>
            </a:xfrm>
          </p:grpSpPr>
          <p:sp>
            <p:nvSpPr>
              <p:cNvPr id="636" name=""/>
              <p:cNvSpPr/>
              <p:nvPr/>
            </p:nvSpPr>
            <p:spPr>
              <a:xfrm>
                <a:off x="164268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3980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773520" y="2255760"/>
              <a:ext cx="268200" cy="514440"/>
              <a:chOff x="3773520" y="2255760"/>
              <a:chExt cx="268200" cy="514440"/>
            </a:xfrm>
          </p:grpSpPr>
          <p:sp>
            <p:nvSpPr>
              <p:cNvPr id="639" name=""/>
              <p:cNvSpPr/>
              <p:nvPr/>
            </p:nvSpPr>
            <p:spPr>
              <a:xfrm>
                <a:off x="377640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352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983200" y="2255760"/>
              <a:ext cx="268200" cy="514440"/>
              <a:chOff x="5983200" y="2255760"/>
              <a:chExt cx="268200" cy="514440"/>
            </a:xfrm>
          </p:grpSpPr>
          <p:sp>
            <p:nvSpPr>
              <p:cNvPr id="642" name=""/>
              <p:cNvSpPr/>
              <p:nvPr/>
            </p:nvSpPr>
            <p:spPr>
              <a:xfrm>
                <a:off x="598608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98320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8116920" y="2255760"/>
              <a:ext cx="268200" cy="514440"/>
              <a:chOff x="8116920" y="2255760"/>
              <a:chExt cx="268200" cy="514440"/>
            </a:xfrm>
          </p:grpSpPr>
          <p:sp>
            <p:nvSpPr>
              <p:cNvPr id="645" name=""/>
              <p:cNvSpPr/>
              <p:nvPr/>
            </p:nvSpPr>
            <p:spPr>
              <a:xfrm>
                <a:off x="8119800" y="22557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116920" y="24102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716120" y="3094200"/>
              <a:ext cx="268200" cy="514080"/>
              <a:chOff x="1716120" y="3094200"/>
              <a:chExt cx="268200" cy="514080"/>
            </a:xfrm>
          </p:grpSpPr>
          <p:sp>
            <p:nvSpPr>
              <p:cNvPr id="648" name=""/>
              <p:cNvSpPr/>
              <p:nvPr/>
            </p:nvSpPr>
            <p:spPr>
              <a:xfrm>
                <a:off x="1719000" y="30942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16120" y="3248640"/>
                <a:ext cx="268200" cy="35964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773520" y="3170160"/>
              <a:ext cx="268200" cy="514440"/>
              <a:chOff x="3773520" y="3170160"/>
              <a:chExt cx="268200" cy="514440"/>
            </a:xfrm>
          </p:grpSpPr>
          <p:sp>
            <p:nvSpPr>
              <p:cNvPr id="651" name=""/>
              <p:cNvSpPr/>
              <p:nvPr/>
            </p:nvSpPr>
            <p:spPr>
              <a:xfrm>
                <a:off x="3776400" y="3170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773520" y="3324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5983200" y="3170160"/>
              <a:ext cx="268200" cy="514440"/>
              <a:chOff x="5983200" y="3170160"/>
              <a:chExt cx="268200" cy="514440"/>
            </a:xfrm>
          </p:grpSpPr>
          <p:sp>
            <p:nvSpPr>
              <p:cNvPr id="654" name=""/>
              <p:cNvSpPr/>
              <p:nvPr/>
            </p:nvSpPr>
            <p:spPr>
              <a:xfrm>
                <a:off x="5986080" y="3170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983200" y="3324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773520" y="4313160"/>
              <a:ext cx="268200" cy="514440"/>
              <a:chOff x="3773520" y="4313160"/>
              <a:chExt cx="268200" cy="514440"/>
            </a:xfrm>
          </p:grpSpPr>
          <p:sp>
            <p:nvSpPr>
              <p:cNvPr id="657" name=""/>
              <p:cNvSpPr/>
              <p:nvPr/>
            </p:nvSpPr>
            <p:spPr>
              <a:xfrm>
                <a:off x="3776400" y="4313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73520" y="4467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943600" y="1143000"/>
              <a:ext cx="457200" cy="837720"/>
              <a:chOff x="5943600" y="1143000"/>
              <a:chExt cx="457200" cy="83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6080040" y="11430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43600" y="13726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952880" y="4114800"/>
              <a:ext cx="457200" cy="837720"/>
              <a:chOff x="4952880" y="4114800"/>
              <a:chExt cx="457200" cy="83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5089320" y="4114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52880" y="4344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7848720" y="2971800"/>
              <a:ext cx="457200" cy="837720"/>
              <a:chOff x="7848720" y="2971800"/>
              <a:chExt cx="457200" cy="83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7985160" y="2971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848720" y="3201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295280" y="1371600"/>
              <a:ext cx="268560" cy="514440"/>
              <a:chOff x="1295280" y="1371600"/>
              <a:chExt cx="268560" cy="514440"/>
            </a:xfrm>
          </p:grpSpPr>
          <p:sp>
            <p:nvSpPr>
              <p:cNvPr id="669" name=""/>
              <p:cNvSpPr/>
              <p:nvPr/>
            </p:nvSpPr>
            <p:spPr>
              <a:xfrm>
                <a:off x="1298160" y="13716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295280" y="1526040"/>
                <a:ext cx="26856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821640" y="4313160"/>
              <a:ext cx="268200" cy="514440"/>
              <a:chOff x="6821640" y="4313160"/>
              <a:chExt cx="268200" cy="514440"/>
            </a:xfrm>
          </p:grpSpPr>
          <p:sp>
            <p:nvSpPr>
              <p:cNvPr id="672" name=""/>
              <p:cNvSpPr/>
              <p:nvPr/>
            </p:nvSpPr>
            <p:spPr>
              <a:xfrm>
                <a:off x="6824520" y="4313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21640" y="4467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716120" y="5532480"/>
              <a:ext cx="268200" cy="514440"/>
              <a:chOff x="1716120" y="5532480"/>
              <a:chExt cx="268200" cy="514440"/>
            </a:xfrm>
          </p:grpSpPr>
          <p:sp>
            <p:nvSpPr>
              <p:cNvPr id="675" name=""/>
              <p:cNvSpPr/>
              <p:nvPr/>
            </p:nvSpPr>
            <p:spPr>
              <a:xfrm>
                <a:off x="1719000" y="5532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716120" y="5686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3925800" y="5532480"/>
              <a:ext cx="268200" cy="514440"/>
              <a:chOff x="3925800" y="5532480"/>
              <a:chExt cx="268200" cy="514440"/>
            </a:xfrm>
          </p:grpSpPr>
          <p:sp>
            <p:nvSpPr>
              <p:cNvPr id="678" name=""/>
              <p:cNvSpPr/>
              <p:nvPr/>
            </p:nvSpPr>
            <p:spPr>
              <a:xfrm>
                <a:off x="3928680" y="553248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25800" y="568692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354800" y="5456160"/>
              <a:ext cx="268200" cy="514440"/>
              <a:chOff x="7354800" y="5456160"/>
              <a:chExt cx="268200" cy="514440"/>
            </a:xfrm>
          </p:grpSpPr>
          <p:sp>
            <p:nvSpPr>
              <p:cNvPr id="681" name=""/>
              <p:cNvSpPr/>
              <p:nvPr/>
            </p:nvSpPr>
            <p:spPr>
              <a:xfrm>
                <a:off x="7357680" y="545616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354800" y="5610600"/>
                <a:ext cx="26820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105520" y="1066680"/>
              <a:ext cx="457200" cy="838080"/>
              <a:chOff x="5105520" y="1066680"/>
              <a:chExt cx="45720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5241960" y="1066680"/>
                <a:ext cx="262080" cy="24444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05520" y="1296360"/>
                <a:ext cx="457200" cy="60840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334120" y="5257800"/>
              <a:ext cx="457200" cy="837720"/>
              <a:chOff x="5334120" y="5257800"/>
              <a:chExt cx="457200" cy="83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5470560" y="5257800"/>
                <a:ext cx="262080" cy="2440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334120" y="5487480"/>
                <a:ext cx="457200" cy="608040"/>
              </a:xfrm>
              <a:custGeom>
                <a:avLst/>
                <a:gdLst/>
                <a:ahLst/>
                <a:rect l="l" t="t" r="r" b="b"/>
                <a:pathLst>
                  <a:path w="502" h="717">
                    <a:moveTo>
                      <a:pt x="198" y="17"/>
                    </a:moveTo>
                    <a:cubicBezTo>
                      <a:pt x="184" y="25"/>
                      <a:pt x="145" y="15"/>
                      <a:pt x="115" y="67"/>
                    </a:cubicBezTo>
                    <a:cubicBezTo>
                      <a:pt x="85" y="119"/>
                      <a:pt x="19" y="283"/>
                      <a:pt x="16" y="331"/>
                    </a:cubicBezTo>
                    <a:cubicBezTo>
                      <a:pt x="13" y="379"/>
                      <a:pt x="73" y="385"/>
                      <a:pt x="95" y="357"/>
                    </a:cubicBezTo>
                    <a:cubicBezTo>
                      <a:pt x="117" y="329"/>
                      <a:pt x="141" y="154"/>
                      <a:pt x="150" y="161"/>
                    </a:cubicBezTo>
                    <a:cubicBezTo>
                      <a:pt x="159" y="168"/>
                      <a:pt x="155" y="332"/>
                      <a:pt x="150" y="401"/>
                    </a:cubicBezTo>
                    <a:cubicBezTo>
                      <a:pt x="145" y="470"/>
                      <a:pt x="142" y="542"/>
                      <a:pt x="122" y="575"/>
                    </a:cubicBezTo>
                    <a:cubicBezTo>
                      <a:pt x="102" y="608"/>
                      <a:pt x="48" y="584"/>
                      <a:pt x="29" y="601"/>
                    </a:cubicBezTo>
                    <a:cubicBezTo>
                      <a:pt x="10" y="618"/>
                      <a:pt x="0" y="666"/>
                      <a:pt x="10" y="680"/>
                    </a:cubicBezTo>
                    <a:cubicBezTo>
                      <a:pt x="20" y="694"/>
                      <a:pt x="55" y="689"/>
                      <a:pt x="89" y="687"/>
                    </a:cubicBezTo>
                    <a:cubicBezTo>
                      <a:pt x="123" y="685"/>
                      <a:pt x="183" y="695"/>
                      <a:pt x="214" y="667"/>
                    </a:cubicBezTo>
                    <a:cubicBezTo>
                      <a:pt x="245" y="639"/>
                      <a:pt x="252" y="518"/>
                      <a:pt x="273" y="522"/>
                    </a:cubicBezTo>
                    <a:cubicBezTo>
                      <a:pt x="294" y="526"/>
                      <a:pt x="322" y="661"/>
                      <a:pt x="342" y="689"/>
                    </a:cubicBezTo>
                    <a:cubicBezTo>
                      <a:pt x="362" y="717"/>
                      <a:pt x="368" y="693"/>
                      <a:pt x="392" y="693"/>
                    </a:cubicBezTo>
                    <a:cubicBezTo>
                      <a:pt x="416" y="693"/>
                      <a:pt x="470" y="706"/>
                      <a:pt x="486" y="689"/>
                    </a:cubicBezTo>
                    <a:cubicBezTo>
                      <a:pt x="502" y="672"/>
                      <a:pt x="498" y="611"/>
                      <a:pt x="486" y="593"/>
                    </a:cubicBezTo>
                    <a:cubicBezTo>
                      <a:pt x="474" y="575"/>
                      <a:pt x="429" y="604"/>
                      <a:pt x="412" y="581"/>
                    </a:cubicBezTo>
                    <a:cubicBezTo>
                      <a:pt x="395" y="558"/>
                      <a:pt x="390" y="524"/>
                      <a:pt x="385" y="456"/>
                    </a:cubicBezTo>
                    <a:cubicBezTo>
                      <a:pt x="380" y="388"/>
                      <a:pt x="371" y="186"/>
                      <a:pt x="379" y="172"/>
                    </a:cubicBezTo>
                    <a:cubicBezTo>
                      <a:pt x="387" y="158"/>
                      <a:pt x="413" y="336"/>
                      <a:pt x="432" y="370"/>
                    </a:cubicBezTo>
                    <a:cubicBezTo>
                      <a:pt x="451" y="404"/>
                      <a:pt x="492" y="429"/>
                      <a:pt x="491" y="377"/>
                    </a:cubicBezTo>
                    <a:cubicBezTo>
                      <a:pt x="490" y="325"/>
                      <a:pt x="445" y="120"/>
                      <a:pt x="425" y="60"/>
                    </a:cubicBezTo>
                    <a:cubicBezTo>
                      <a:pt x="405" y="0"/>
                      <a:pt x="386" y="21"/>
                      <a:pt x="372" y="14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1219320" y="457200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52680" y="243828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638680" y="2286000"/>
              <a:ext cx="268560" cy="514440"/>
              <a:chOff x="5638680" y="2286000"/>
              <a:chExt cx="268560" cy="514440"/>
            </a:xfrm>
          </p:grpSpPr>
          <p:sp>
            <p:nvSpPr>
              <p:cNvPr id="692" name=""/>
              <p:cNvSpPr/>
              <p:nvPr/>
            </p:nvSpPr>
            <p:spPr>
              <a:xfrm>
                <a:off x="5641560" y="228600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38680" y="2440440"/>
                <a:ext cx="268560" cy="36000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371600" y="5562720"/>
              <a:ext cx="268200" cy="514080"/>
              <a:chOff x="1371600" y="5562720"/>
              <a:chExt cx="268200" cy="514080"/>
            </a:xfrm>
          </p:grpSpPr>
          <p:sp>
            <p:nvSpPr>
              <p:cNvPr id="695" name=""/>
              <p:cNvSpPr/>
              <p:nvPr/>
            </p:nvSpPr>
            <p:spPr>
              <a:xfrm>
                <a:off x="1374480" y="5562720"/>
                <a:ext cx="155160" cy="16488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71600" y="5717160"/>
                <a:ext cx="268200" cy="359640"/>
              </a:xfrm>
              <a:custGeom>
                <a:avLst/>
                <a:gdLst/>
                <a:ahLst/>
                <a:rect l="l" t="t" r="r" b="b"/>
                <a:pathLst>
                  <a:path w="498" h="628">
                    <a:moveTo>
                      <a:pt x="96" y="18"/>
                    </a:moveTo>
                    <a:cubicBezTo>
                      <a:pt x="80" y="18"/>
                      <a:pt x="64" y="18"/>
                      <a:pt x="48" y="66"/>
                    </a:cubicBezTo>
                    <a:cubicBezTo>
                      <a:pt x="32" y="114"/>
                      <a:pt x="0" y="250"/>
                      <a:pt x="0" y="306"/>
                    </a:cubicBezTo>
                    <a:cubicBezTo>
                      <a:pt x="0" y="362"/>
                      <a:pt x="8" y="386"/>
                      <a:pt x="48" y="402"/>
                    </a:cubicBezTo>
                    <a:cubicBezTo>
                      <a:pt x="88" y="418"/>
                      <a:pt x="200" y="370"/>
                      <a:pt x="240" y="402"/>
                    </a:cubicBezTo>
                    <a:cubicBezTo>
                      <a:pt x="280" y="434"/>
                      <a:pt x="249" y="560"/>
                      <a:pt x="288" y="594"/>
                    </a:cubicBezTo>
                    <a:cubicBezTo>
                      <a:pt x="327" y="628"/>
                      <a:pt x="448" y="618"/>
                      <a:pt x="473" y="607"/>
                    </a:cubicBezTo>
                    <a:cubicBezTo>
                      <a:pt x="498" y="596"/>
                      <a:pt x="459" y="542"/>
                      <a:pt x="440" y="528"/>
                    </a:cubicBezTo>
                    <a:cubicBezTo>
                      <a:pt x="421" y="514"/>
                      <a:pt x="376" y="554"/>
                      <a:pt x="361" y="521"/>
                    </a:cubicBezTo>
                    <a:cubicBezTo>
                      <a:pt x="346" y="488"/>
                      <a:pt x="359" y="368"/>
                      <a:pt x="348" y="330"/>
                    </a:cubicBezTo>
                    <a:cubicBezTo>
                      <a:pt x="337" y="292"/>
                      <a:pt x="319" y="301"/>
                      <a:pt x="295" y="290"/>
                    </a:cubicBezTo>
                    <a:cubicBezTo>
                      <a:pt x="271" y="279"/>
                      <a:pt x="220" y="284"/>
                      <a:pt x="203" y="264"/>
                    </a:cubicBezTo>
                    <a:cubicBezTo>
                      <a:pt x="186" y="244"/>
                      <a:pt x="183" y="172"/>
                      <a:pt x="196" y="172"/>
                    </a:cubicBezTo>
                    <a:cubicBezTo>
                      <a:pt x="209" y="172"/>
                      <a:pt x="255" y="247"/>
                      <a:pt x="282" y="264"/>
                    </a:cubicBezTo>
                    <a:cubicBezTo>
                      <a:pt x="309" y="281"/>
                      <a:pt x="362" y="300"/>
                      <a:pt x="355" y="271"/>
                    </a:cubicBezTo>
                    <a:cubicBezTo>
                      <a:pt x="348" y="242"/>
                      <a:pt x="265" y="137"/>
                      <a:pt x="242" y="92"/>
                    </a:cubicBezTo>
                    <a:cubicBezTo>
                      <a:pt x="219" y="47"/>
                      <a:pt x="221" y="15"/>
                      <a:pt x="216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kä liikenteessä on se olennainen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ktluser</cp:lastModifiedBy>
  <dcterms:modified xsi:type="dcterms:W3CDTF">2011-10-31T16:00:19Z</dcterms:modified>
  <cp:revision>18</cp:revision>
  <dc:subject/>
  <dc:title>Avoin mallitus. Esimerkkinä liikenteen muutosten päästövaikutukset ja sairastuvuus</dc:title>
</cp:coreProperties>
</file>